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Click to move the slide</a:t>
            </a:r>
            <a:endParaRPr b="1" lang="en-US" sz="3600" spc="-1" strike="noStrike">
              <a:solidFill>
                <a:srgbClr val="003366"/>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D9A2-C9BC-4C14-B250-FC4503F37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1DCE-E040-4C86-90EC-4903BE61E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00F1-EA8F-453C-831A-AC6C2AF85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45A9-BD89-4EBF-8955-9700BBA10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9BE3-1B07-495E-99E9-516D71FCE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peak different languages or diale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D700-1FB1-4306-8625-442E637B6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35BA-3D26-4430-8DAB-6B459EC1F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inune brain – lowest level is instinct, followed by emotion, with conceptual thinking at the top. When we feel threatened control moves down to the limbic system, which is why learning is impeded when learners feel threatened. Need to be challenged but not threat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in the 50s involving severing the two hemispheres in epileptic patients revealed the two sides of brain processing. The right mode is instinctive, total, holistic, we don’t need to think about it, it just happens. Left mode processing is more logical and sequential. In Julia’s terms, like solving an anagram, you go from A to Z without thinking when the RHS is working, whereas for the LHS need to go from A to B to C to 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ha’ moment is when the two sides conve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62668-666D-49D3-8342-A71E7CABE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27" name="PlaceHolder 2"/>
          <p:cNvSpPr>
            <a:spLocks noGrp="1"/>
          </p:cNvSpPr>
          <p:nvPr>
            <p:ph/>
          </p:nvPr>
        </p:nvSpPr>
        <p:spPr>
          <a:xfrm>
            <a:off x="1204560" y="1773360"/>
            <a:ext cx="754380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28" name="PlaceHolder 3"/>
          <p:cNvSpPr>
            <a:spLocks noGrp="1"/>
          </p:cNvSpPr>
          <p:nvPr>
            <p:ph/>
          </p:nvPr>
        </p:nvSpPr>
        <p:spPr>
          <a:xfrm>
            <a:off x="1204560" y="3879720"/>
            <a:ext cx="754380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7A124-E014-4DA5-B8D9-28F21C711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30" name="PlaceHolder 2"/>
          <p:cNvSpPr>
            <a:spLocks noGrp="1"/>
          </p:cNvSpPr>
          <p:nvPr>
            <p:ph/>
          </p:nvPr>
        </p:nvSpPr>
        <p:spPr>
          <a:xfrm>
            <a:off x="120456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1" name="PlaceHolder 3"/>
          <p:cNvSpPr>
            <a:spLocks noGrp="1"/>
          </p:cNvSpPr>
          <p:nvPr>
            <p:ph/>
          </p:nvPr>
        </p:nvSpPr>
        <p:spPr>
          <a:xfrm>
            <a:off x="507024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2" name="PlaceHolder 4"/>
          <p:cNvSpPr>
            <a:spLocks noGrp="1"/>
          </p:cNvSpPr>
          <p:nvPr>
            <p:ph/>
          </p:nvPr>
        </p:nvSpPr>
        <p:spPr>
          <a:xfrm>
            <a:off x="1204560" y="387972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3" name="PlaceHolder 5"/>
          <p:cNvSpPr>
            <a:spLocks noGrp="1"/>
          </p:cNvSpPr>
          <p:nvPr>
            <p:ph/>
          </p:nvPr>
        </p:nvSpPr>
        <p:spPr>
          <a:xfrm>
            <a:off x="5070240" y="387972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D57E5-9DE2-4F2E-89DA-AF1096401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35" name="PlaceHolder 2"/>
          <p:cNvSpPr>
            <a:spLocks noGrp="1"/>
          </p:cNvSpPr>
          <p:nvPr>
            <p:ph/>
          </p:nvPr>
        </p:nvSpPr>
        <p:spPr>
          <a:xfrm>
            <a:off x="1204560" y="177336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6" name="PlaceHolder 3"/>
          <p:cNvSpPr>
            <a:spLocks noGrp="1"/>
          </p:cNvSpPr>
          <p:nvPr>
            <p:ph/>
          </p:nvPr>
        </p:nvSpPr>
        <p:spPr>
          <a:xfrm>
            <a:off x="3755160" y="177336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7" name="PlaceHolder 4"/>
          <p:cNvSpPr>
            <a:spLocks noGrp="1"/>
          </p:cNvSpPr>
          <p:nvPr>
            <p:ph/>
          </p:nvPr>
        </p:nvSpPr>
        <p:spPr>
          <a:xfrm>
            <a:off x="6306120" y="177336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8" name="PlaceHolder 5"/>
          <p:cNvSpPr>
            <a:spLocks noGrp="1"/>
          </p:cNvSpPr>
          <p:nvPr>
            <p:ph/>
          </p:nvPr>
        </p:nvSpPr>
        <p:spPr>
          <a:xfrm>
            <a:off x="1204560" y="387972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9" name="PlaceHolder 6"/>
          <p:cNvSpPr>
            <a:spLocks noGrp="1"/>
          </p:cNvSpPr>
          <p:nvPr>
            <p:ph/>
          </p:nvPr>
        </p:nvSpPr>
        <p:spPr>
          <a:xfrm>
            <a:off x="3755160" y="387972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40" name="PlaceHolder 7"/>
          <p:cNvSpPr>
            <a:spLocks noGrp="1"/>
          </p:cNvSpPr>
          <p:nvPr>
            <p:ph/>
          </p:nvPr>
        </p:nvSpPr>
        <p:spPr>
          <a:xfrm>
            <a:off x="6306120" y="387972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361BE-15D5-4DD9-AFFC-8DF5EA15C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6" name="PlaceHolder 2"/>
          <p:cNvSpPr>
            <a:spLocks noGrp="1"/>
          </p:cNvSpPr>
          <p:nvPr>
            <p:ph type="subTitle"/>
          </p:nvPr>
        </p:nvSpPr>
        <p:spPr>
          <a:xfrm>
            <a:off x="1204560" y="1773360"/>
            <a:ext cx="7543800" cy="40320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1F2D5-F4B8-41AE-A2DB-2915ADE54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8"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5BD78-7369-4D95-B870-6CCD524CF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10" name="PlaceHolder 2"/>
          <p:cNvSpPr>
            <a:spLocks noGrp="1"/>
          </p:cNvSpPr>
          <p:nvPr>
            <p:ph/>
          </p:nvPr>
        </p:nvSpPr>
        <p:spPr>
          <a:xfrm>
            <a:off x="1204560" y="1773360"/>
            <a:ext cx="3681360" cy="40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11" name="PlaceHolder 3"/>
          <p:cNvSpPr>
            <a:spLocks noGrp="1"/>
          </p:cNvSpPr>
          <p:nvPr>
            <p:ph/>
          </p:nvPr>
        </p:nvSpPr>
        <p:spPr>
          <a:xfrm>
            <a:off x="5070240" y="1773360"/>
            <a:ext cx="3681360" cy="40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1E162-DA11-4A1A-AF35-11DF3C090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0C31F-F415-4B1C-B212-CEB7A122B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04560" y="115560"/>
            <a:ext cx="75438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CB06C-A36C-43A7-BF2F-00F0AF8B0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15" name="PlaceHolder 2"/>
          <p:cNvSpPr>
            <a:spLocks noGrp="1"/>
          </p:cNvSpPr>
          <p:nvPr>
            <p:ph/>
          </p:nvPr>
        </p:nvSpPr>
        <p:spPr>
          <a:xfrm>
            <a:off x="120456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16" name="PlaceHolder 3"/>
          <p:cNvSpPr>
            <a:spLocks noGrp="1"/>
          </p:cNvSpPr>
          <p:nvPr>
            <p:ph/>
          </p:nvPr>
        </p:nvSpPr>
        <p:spPr>
          <a:xfrm>
            <a:off x="5070240" y="1773360"/>
            <a:ext cx="3681360" cy="40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17" name="PlaceHolder 4"/>
          <p:cNvSpPr>
            <a:spLocks noGrp="1"/>
          </p:cNvSpPr>
          <p:nvPr>
            <p:ph/>
          </p:nvPr>
        </p:nvSpPr>
        <p:spPr>
          <a:xfrm>
            <a:off x="1204560" y="387972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DDD74-8E81-4997-8F31-833ADF299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19" name="PlaceHolder 2"/>
          <p:cNvSpPr>
            <a:spLocks noGrp="1"/>
          </p:cNvSpPr>
          <p:nvPr>
            <p:ph/>
          </p:nvPr>
        </p:nvSpPr>
        <p:spPr>
          <a:xfrm>
            <a:off x="1204560" y="1773360"/>
            <a:ext cx="3681360" cy="40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20" name="PlaceHolder 3"/>
          <p:cNvSpPr>
            <a:spLocks noGrp="1"/>
          </p:cNvSpPr>
          <p:nvPr>
            <p:ph/>
          </p:nvPr>
        </p:nvSpPr>
        <p:spPr>
          <a:xfrm>
            <a:off x="507024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21" name="PlaceHolder 4"/>
          <p:cNvSpPr>
            <a:spLocks noGrp="1"/>
          </p:cNvSpPr>
          <p:nvPr>
            <p:ph/>
          </p:nvPr>
        </p:nvSpPr>
        <p:spPr>
          <a:xfrm>
            <a:off x="5070240" y="387972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6AC4A-0A93-4E25-BF90-F0C89D966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23" name="PlaceHolder 2"/>
          <p:cNvSpPr>
            <a:spLocks noGrp="1"/>
          </p:cNvSpPr>
          <p:nvPr>
            <p:ph/>
          </p:nvPr>
        </p:nvSpPr>
        <p:spPr>
          <a:xfrm>
            <a:off x="120456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24" name="PlaceHolder 3"/>
          <p:cNvSpPr>
            <a:spLocks noGrp="1"/>
          </p:cNvSpPr>
          <p:nvPr>
            <p:ph/>
          </p:nvPr>
        </p:nvSpPr>
        <p:spPr>
          <a:xfrm>
            <a:off x="507024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25" name="PlaceHolder 4"/>
          <p:cNvSpPr>
            <a:spLocks noGrp="1"/>
          </p:cNvSpPr>
          <p:nvPr>
            <p:ph/>
          </p:nvPr>
        </p:nvSpPr>
        <p:spPr>
          <a:xfrm>
            <a:off x="1204560" y="3879720"/>
            <a:ext cx="754380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C9335-9FBA-4F40-AA97-E5CB546A7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Click to edit the title text format</a:t>
            </a:r>
            <a:endParaRPr b="1" lang="en-US" sz="3600" spc="-1" strike="noStrike">
              <a:solidFill>
                <a:srgbClr val="003366"/>
              </a:solidFill>
              <a:latin typeface="Verdana"/>
            </a:endParaRPr>
          </a:p>
        </p:txBody>
      </p:sp>
      <p:sp>
        <p:nvSpPr>
          <p:cNvPr id="1" name="PlaceHolder 2"/>
          <p:cNvSpPr>
            <a:spLocks noGrp="1"/>
          </p:cNvSpPr>
          <p:nvPr>
            <p:ph type="body"/>
          </p:nvPr>
        </p:nvSpPr>
        <p:spPr>
          <a:xfrm>
            <a:off x="1204560" y="1773360"/>
            <a:ext cx="7543800" cy="4032000"/>
          </a:xfrm>
          <a:prstGeom prst="rect">
            <a:avLst/>
          </a:prstGeom>
          <a:noFill/>
          <a:ln w="0">
            <a:noFill/>
          </a:ln>
        </p:spPr>
        <p:txBody>
          <a:bodyPr lIns="90000" rIns="90000" tIns="46800" bIns="46800" anchor="t">
            <a:normAutofit fontScale="80000"/>
          </a:bodyPr>
          <a:p>
            <a:pPr marL="274320" indent="-27432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Click to edit the outline text format</a:t>
            </a:r>
            <a:endParaRPr b="0" lang="en-US" sz="3000" spc="-1" strike="noStrike">
              <a:solidFill>
                <a:srgbClr val="003366"/>
              </a:solidFill>
              <a:latin typeface="Verdana"/>
            </a:endParaRPr>
          </a:p>
          <a:p>
            <a:pPr lvl="1" marL="594360" indent="-22860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Second Outline Level</a:t>
            </a:r>
            <a:endParaRPr b="0" lang="en-US" sz="3000" spc="-1" strike="noStrike">
              <a:solidFill>
                <a:srgbClr val="003366"/>
              </a:solidFill>
              <a:latin typeface="Verdana"/>
            </a:endParaRPr>
          </a:p>
          <a:p>
            <a:pPr lvl="2" marL="914400" indent="-1828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Third Outline Level</a:t>
            </a:r>
            <a:endParaRPr b="0" lang="en-US" sz="3000" spc="-1" strike="noStrike">
              <a:solidFill>
                <a:srgbClr val="003366"/>
              </a:solidFill>
              <a:latin typeface="Verdana"/>
            </a:endParaRPr>
          </a:p>
          <a:p>
            <a:pPr lvl="3" marL="1280160" indent="-1828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Fourth Outline Level</a:t>
            </a:r>
            <a:endParaRPr b="0" lang="en-US" sz="3000" spc="-1" strike="noStrike">
              <a:solidFill>
                <a:srgbClr val="003366"/>
              </a:solidFill>
              <a:latin typeface="Verdana"/>
            </a:endParaRPr>
          </a:p>
          <a:p>
            <a:pPr lvl="4" marL="1645920" indent="-1828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Fifth Outline Level</a:t>
            </a:r>
            <a:endParaRPr b="0" lang="en-US" sz="3000" spc="-1" strike="noStrike">
              <a:solidFill>
                <a:srgbClr val="003366"/>
              </a:solidFill>
              <a:latin typeface="Verdana"/>
            </a:endParaRPr>
          </a:p>
          <a:p>
            <a:pPr lvl="5" marL="1645920" indent="-182880">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Sixth Outline Level</a:t>
            </a:r>
            <a:endParaRPr b="0" lang="en-US" sz="3000" spc="-1" strike="noStrike">
              <a:solidFill>
                <a:srgbClr val="003366"/>
              </a:solidFill>
              <a:latin typeface="Verdana"/>
            </a:endParaRPr>
          </a:p>
          <a:p>
            <a:pPr lvl="6" marL="1645920" indent="-182880">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Seventh Outline Level</a:t>
            </a:r>
            <a:endParaRPr b="0" lang="en-US" sz="3000" spc="-1" strike="noStrike">
              <a:solidFill>
                <a:srgbClr val="003366"/>
              </a:solidFill>
              <a:latin typeface="Verdana"/>
            </a:endParaRPr>
          </a:p>
        </p:txBody>
      </p:sp>
      <p:sp>
        <p:nvSpPr>
          <p:cNvPr id="2" name="PlaceHolder 3"/>
          <p:cNvSpPr>
            <a:spLocks noGrp="1"/>
          </p:cNvSpPr>
          <p:nvPr>
            <p:ph type="dt" idx="1"/>
          </p:nvPr>
        </p:nvSpPr>
        <p:spPr>
          <a:xfrm>
            <a:off x="639432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056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39432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E24E-5BAC-43EA-B74B-F3AD06CF360B}"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earning-by-design.com/"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00" y="1598400"/>
            <a:ext cx="6120000" cy="1469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66"/>
                </a:solidFill>
                <a:latin typeface="Verdana"/>
              </a:rPr>
              <a:t>Thinking Styles - Herrmann’s Creative Brain</a:t>
            </a:r>
            <a:br>
              <a:rPr sz="4800"/>
            </a:br>
            <a:br>
              <a:rPr sz="4800"/>
            </a:br>
            <a:r>
              <a:rPr b="1" i="1" lang="en-GB" sz="2800" spc="-1" strike="noStrike">
                <a:solidFill>
                  <a:srgbClr val="669900"/>
                </a:solidFill>
                <a:latin typeface="Verdana"/>
              </a:rPr>
              <a:t>Playing the Diversity Game (Cognitive preferences)</a:t>
            </a:r>
            <a:endParaRPr b="1" lang="en-US" sz="2800" spc="-1" strike="noStrike">
              <a:solidFill>
                <a:srgbClr val="003366"/>
              </a:solidFill>
              <a:latin typeface="Verdana"/>
            </a:endParaRPr>
          </a:p>
        </p:txBody>
      </p:sp>
      <p:sp>
        <p:nvSpPr>
          <p:cNvPr id="49" name="PlaceHolder 2"/>
          <p:cNvSpPr>
            <a:spLocks noGrp="1"/>
          </p:cNvSpPr>
          <p:nvPr>
            <p:ph type="subTitle"/>
          </p:nvPr>
        </p:nvSpPr>
        <p:spPr>
          <a:xfrm>
            <a:off x="1979640" y="4365360"/>
            <a:ext cx="5616720" cy="718920"/>
          </a:xfrm>
          <a:prstGeom prst="rect">
            <a:avLst/>
          </a:prstGeom>
          <a:noFill/>
          <a:ln w="0">
            <a:noFill/>
          </a:ln>
        </p:spPr>
        <p:txBody>
          <a:bodyPr lIns="90000" rIns="90000" tIns="46800" bIns="46800" anchor="t">
            <a:noAutofit/>
          </a:bodyPr>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Verdana"/>
              </a:rPr>
              <a:t>WikiVet Workshop, LIVE Centre</a:t>
            </a:r>
            <a:endParaRPr b="0" lang="en-US" sz="2400" spc="-1" strike="noStrike">
              <a:solidFill>
                <a:srgbClr val="003366"/>
              </a:solidFill>
              <a:latin typeface="Verdana"/>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rPr>
              <a:t>31</a:t>
            </a:r>
            <a:r>
              <a:rPr b="1" lang="en-GB" sz="2000" spc="-1" strike="noStrike" baseline="30000">
                <a:solidFill>
                  <a:srgbClr val="003366"/>
                </a:solidFill>
                <a:latin typeface="Verdana"/>
              </a:rPr>
              <a:t>st</a:t>
            </a:r>
            <a:r>
              <a:rPr b="1" lang="en-GB" sz="2000" spc="-1" strike="noStrike">
                <a:solidFill>
                  <a:srgbClr val="003366"/>
                </a:solidFill>
                <a:latin typeface="Verdana"/>
              </a:rPr>
              <a:t> July 2007</a:t>
            </a:r>
            <a:endParaRPr b="0" lang="en-US" sz="2000" spc="-1" strike="noStrike">
              <a:solidFill>
                <a:srgbClr val="003366"/>
              </a:solidFill>
              <a:latin typeface="Verdana"/>
            </a:endParaRPr>
          </a:p>
        </p:txBody>
      </p:sp>
      <p:sp>
        <p:nvSpPr>
          <p:cNvPr id="50" name=""/>
          <p:cNvSpPr/>
          <p:nvPr/>
        </p:nvSpPr>
        <p:spPr>
          <a:xfrm>
            <a:off x="1619280" y="6078600"/>
            <a:ext cx="72723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ff2225"/>
                </a:solidFill>
                <a:uFillTx/>
                <a:latin typeface="Verdana"/>
              </a:rPr>
              <a:t>Thanks to Julia Atkin for input </a:t>
            </a:r>
            <a:br>
              <a:rPr sz="2000"/>
            </a:br>
            <a:r>
              <a:rPr b="1" i="1" lang="en-GB" sz="2000" spc="-1" strike="noStrike" u="sng">
                <a:solidFill>
                  <a:srgbClr val="ff2225"/>
                </a:solidFill>
                <a:uFillTx/>
                <a:latin typeface="Verdana"/>
              </a:rPr>
              <a:t>(www.learning-by-design.com)</a:t>
            </a:r>
            <a:endParaRPr b="0" lang="en-US" sz="2000" spc="-1" strike="noStrike">
              <a:solidFill>
                <a:srgbClr val="ffffff"/>
              </a:solidFill>
              <a:latin typeface="Times New Roman"/>
            </a:endParaRPr>
          </a:p>
        </p:txBody>
      </p:sp>
    </p:spTree>
  </p:cSld>
  <p:transition spd="slow" advTm="6000">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The Diversity Game</a:t>
            </a:r>
            <a:endParaRPr b="1" lang="en-US" sz="3200" spc="-1" strike="noStrike">
              <a:solidFill>
                <a:srgbClr val="003366"/>
              </a:solidFill>
              <a:latin typeface="Verdana"/>
            </a:endParaRPr>
          </a:p>
        </p:txBody>
      </p:sp>
      <p:sp>
        <p:nvSpPr>
          <p:cNvPr id="220"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marL="343080" indent="-3430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Verdana"/>
              </a:rPr>
              <a:t>Examine all the discarded cards and make any exchanges you want to …</a:t>
            </a:r>
            <a:endParaRPr b="0" lang="en-US" sz="3000" spc="-1" strike="noStrike">
              <a:solidFill>
                <a:srgbClr val="003366"/>
              </a:solidFill>
              <a:latin typeface="Verdana"/>
            </a:endParaRPr>
          </a:p>
          <a:p>
            <a:pPr marL="343080" indent="-343080">
              <a:spcBef>
                <a:spcPts val="2251"/>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669900"/>
                </a:solidFill>
                <a:latin typeface="Verdana"/>
              </a:rPr>
              <a:t>Were those choices easy or difficult?</a:t>
            </a:r>
            <a:endParaRPr b="0" lang="en-US" sz="3000" spc="-1" strike="noStrike">
              <a:solidFill>
                <a:srgbClr val="003366"/>
              </a:solidFill>
              <a:latin typeface="Verdana"/>
            </a:endParaRPr>
          </a:p>
          <a:p>
            <a:pPr marL="343080" indent="-343080">
              <a:spcBef>
                <a:spcPts val="2251"/>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669900"/>
                </a:solidFill>
                <a:latin typeface="Verdana"/>
              </a:rPr>
              <a:t>Were you able to put together a hand that closely represented you?</a:t>
            </a:r>
            <a:endParaRPr b="0" lang="en-US" sz="3000" spc="-1" strike="noStrike">
              <a:solidFill>
                <a:srgbClr val="003366"/>
              </a:solidFill>
              <a:latin typeface="Verdana"/>
            </a:endParaRPr>
          </a:p>
        </p:txBody>
      </p:sp>
    </p:spTree>
  </p:cSld>
  <p:transition spd="slow" advTm="6000">
    <p:pull dir="l"/>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The Diversity Game</a:t>
            </a:r>
            <a:endParaRPr b="1" lang="en-US" sz="3200" spc="-1" strike="noStrike">
              <a:solidFill>
                <a:srgbClr val="003366"/>
              </a:solidFill>
              <a:latin typeface="Verdana"/>
            </a:endParaRPr>
          </a:p>
        </p:txBody>
      </p:sp>
      <p:sp>
        <p:nvSpPr>
          <p:cNvPr id="222" name="PlaceHolder 2"/>
          <p:cNvSpPr>
            <a:spLocks noGrp="1"/>
          </p:cNvSpPr>
          <p:nvPr>
            <p:ph/>
          </p:nvPr>
        </p:nvSpPr>
        <p:spPr>
          <a:xfrm>
            <a:off x="1204920" y="1773360"/>
            <a:ext cx="6896160" cy="4032000"/>
          </a:xfrm>
          <a:prstGeom prst="rect">
            <a:avLst/>
          </a:prstGeom>
          <a:noFill/>
          <a:ln w="0">
            <a:noFill/>
          </a:ln>
        </p:spPr>
        <p:txBody>
          <a:bodyPr lIns="90000" rIns="90000" tIns="46800" bIns="46800" anchor="t">
            <a:normAutofit/>
          </a:bodyPr>
          <a:p>
            <a:pPr marL="343080" indent="-343080">
              <a:spcBef>
                <a:spcPts val="21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Verdana"/>
              </a:rPr>
              <a:t>Remember a personal story to share with the group that illustrates a time when all three of the qualities in your hand came into play and influenced your behaviour …</a:t>
            </a:r>
            <a:endParaRPr b="0" lang="en-US" sz="2800" spc="-1" strike="noStrike">
              <a:solidFill>
                <a:srgbClr val="003366"/>
              </a:solidFill>
              <a:latin typeface="Verdana"/>
            </a:endParaRPr>
          </a:p>
          <a:p>
            <a:pPr marL="343080" indent="-343080">
              <a:spcBef>
                <a:spcPts val="2100"/>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69900"/>
                </a:solidFill>
                <a:latin typeface="Verdana"/>
              </a:rPr>
              <a:t>Does your story reflect the way you are much of the time?</a:t>
            </a:r>
            <a:endParaRPr b="0" lang="en-US" sz="2800" spc="-1" strike="noStrike">
              <a:solidFill>
                <a:srgbClr val="003366"/>
              </a:solidFill>
              <a:latin typeface="Verdana"/>
            </a:endParaRPr>
          </a:p>
        </p:txBody>
      </p:sp>
    </p:spTree>
  </p:cSld>
  <p:transition spd="slow" advTm="6000">
    <p:pull dir="l"/>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38160" y="-27000"/>
            <a:ext cx="9085320" cy="6705720"/>
          </a:xfrm>
          <a:prstGeom prst="rect">
            <a:avLst/>
          </a:prstGeom>
          <a:ln w="0">
            <a:noFill/>
          </a:ln>
        </p:spPr>
      </p:pic>
      <p:sp>
        <p:nvSpPr>
          <p:cNvPr id="224" name=""/>
          <p:cNvSpPr/>
          <p:nvPr/>
        </p:nvSpPr>
        <p:spPr>
          <a:xfrm>
            <a:off x="5425200" y="6583320"/>
            <a:ext cx="336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Ned Herrmann, </a:t>
            </a:r>
            <a:r>
              <a:rPr b="1" i="1" lang="en-US" sz="1200" spc="-1" strike="noStrike">
                <a:solidFill>
                  <a:srgbClr val="23246c"/>
                </a:solidFill>
                <a:latin typeface="Verdana"/>
              </a:rPr>
              <a:t>The Creative Brain</a:t>
            </a:r>
            <a:r>
              <a:rPr b="1" lang="en-US" sz="1200" spc="-1" strike="noStrike">
                <a:solidFill>
                  <a:srgbClr val="23246c"/>
                </a:solidFill>
                <a:latin typeface="Verdana"/>
              </a:rPr>
              <a:t>, 1989 </a:t>
            </a:r>
            <a:endParaRPr b="0" lang="en-US" sz="1200" spc="-1" strike="noStrike">
              <a:solidFill>
                <a:srgbClr val="ffffff"/>
              </a:solidFill>
              <a:latin typeface="Times New Roman"/>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158760" y="2975040"/>
            <a:ext cx="1866960" cy="1371600"/>
            <a:chOff x="158760" y="2975040"/>
            <a:chExt cx="1866960" cy="1371600"/>
          </a:xfrm>
        </p:grpSpPr>
        <p:grpSp>
          <p:nvGrpSpPr>
            <p:cNvPr id="226" name=""/>
            <p:cNvGrpSpPr/>
            <p:nvPr/>
          </p:nvGrpSpPr>
          <p:grpSpPr>
            <a:xfrm>
              <a:off x="1720800" y="2975040"/>
              <a:ext cx="304920" cy="1371600"/>
              <a:chOff x="1720800" y="2975040"/>
              <a:chExt cx="304920" cy="1371600"/>
            </a:xfrm>
          </p:grpSpPr>
          <p:sp>
            <p:nvSpPr>
              <p:cNvPr id="227" name=""/>
              <p:cNvSpPr/>
              <p:nvPr/>
            </p:nvSpPr>
            <p:spPr>
              <a:xfrm>
                <a:off x="1720800" y="297504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720800" y="297504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1720800" y="434664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0" name=""/>
            <p:cNvSpPr/>
            <p:nvPr/>
          </p:nvSpPr>
          <p:spPr>
            <a:xfrm>
              <a:off x="158760" y="326880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Thinks and ac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step by step</a:t>
              </a:r>
              <a:endParaRPr b="0" lang="en-US" sz="1800" spc="-1" strike="noStrike">
                <a:solidFill>
                  <a:srgbClr val="ffffff"/>
                </a:solidFill>
                <a:latin typeface="Times New Roman"/>
              </a:endParaRPr>
            </a:p>
          </p:txBody>
        </p:sp>
      </p:grpSp>
      <p:sp>
        <p:nvSpPr>
          <p:cNvPr id="231" name=""/>
          <p:cNvSpPr/>
          <p:nvPr/>
        </p:nvSpPr>
        <p:spPr>
          <a:xfrm>
            <a:off x="1187640" y="115920"/>
            <a:ext cx="709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66"/>
                </a:solidFill>
                <a:latin typeface="Arial"/>
              </a:rPr>
              <a:t>Ned Herrmann’s Whole Brain Processing Model</a:t>
            </a:r>
            <a:endParaRPr b="0" lang="en-US" sz="2400" spc="-1" strike="noStrike">
              <a:solidFill>
                <a:srgbClr val="ffffff"/>
              </a:solidFill>
              <a:latin typeface="Times New Roman"/>
            </a:endParaRPr>
          </a:p>
        </p:txBody>
      </p:sp>
      <p:pic>
        <p:nvPicPr>
          <p:cNvPr id="232" name="" descr=""/>
          <p:cNvPicPr/>
          <p:nvPr/>
        </p:nvPicPr>
        <p:blipFill>
          <a:blip r:embed="rId1"/>
          <a:stretch/>
        </p:blipFill>
        <p:spPr>
          <a:xfrm>
            <a:off x="2160720" y="1341360"/>
            <a:ext cx="2244600" cy="2244960"/>
          </a:xfrm>
          <a:prstGeom prst="rect">
            <a:avLst/>
          </a:prstGeom>
          <a:ln w="0">
            <a:noFill/>
          </a:ln>
        </p:spPr>
      </p:pic>
      <p:pic>
        <p:nvPicPr>
          <p:cNvPr id="233" name="" descr=""/>
          <p:cNvPicPr/>
          <p:nvPr/>
        </p:nvPicPr>
        <p:blipFill>
          <a:blip r:embed="rId2"/>
          <a:stretch/>
        </p:blipFill>
        <p:spPr>
          <a:xfrm>
            <a:off x="4464000" y="3616200"/>
            <a:ext cx="2305080" cy="2346480"/>
          </a:xfrm>
          <a:prstGeom prst="rect">
            <a:avLst/>
          </a:prstGeom>
          <a:ln w="0">
            <a:noFill/>
          </a:ln>
        </p:spPr>
      </p:pic>
      <p:pic>
        <p:nvPicPr>
          <p:cNvPr id="234" name="" descr=""/>
          <p:cNvPicPr/>
          <p:nvPr/>
        </p:nvPicPr>
        <p:blipFill>
          <a:blip r:embed="rId3"/>
          <a:stretch/>
        </p:blipFill>
        <p:spPr>
          <a:xfrm>
            <a:off x="2003400" y="3616200"/>
            <a:ext cx="2389320" cy="2305080"/>
          </a:xfrm>
          <a:prstGeom prst="rect">
            <a:avLst/>
          </a:prstGeom>
          <a:ln w="0">
            <a:noFill/>
          </a:ln>
        </p:spPr>
      </p:pic>
      <p:grpSp>
        <p:nvGrpSpPr>
          <p:cNvPr id="235" name=""/>
          <p:cNvGrpSpPr/>
          <p:nvPr/>
        </p:nvGrpSpPr>
        <p:grpSpPr>
          <a:xfrm>
            <a:off x="3168720" y="1378080"/>
            <a:ext cx="3599640" cy="3318480"/>
            <a:chOff x="3168720" y="1378080"/>
            <a:chExt cx="3599640" cy="3318480"/>
          </a:xfrm>
        </p:grpSpPr>
        <p:pic>
          <p:nvPicPr>
            <p:cNvPr id="236" name="" descr=""/>
            <p:cNvPicPr/>
            <p:nvPr/>
          </p:nvPicPr>
          <p:blipFill>
            <a:blip r:embed="rId4"/>
            <a:stretch/>
          </p:blipFill>
          <p:spPr>
            <a:xfrm>
              <a:off x="4474800" y="1378080"/>
              <a:ext cx="2293560" cy="2181240"/>
            </a:xfrm>
            <a:prstGeom prst="rect">
              <a:avLst/>
            </a:prstGeom>
            <a:ln w="0">
              <a:noFill/>
            </a:ln>
          </p:spPr>
        </p:pic>
        <p:grpSp>
          <p:nvGrpSpPr>
            <p:cNvPr id="237" name=""/>
            <p:cNvGrpSpPr/>
            <p:nvPr/>
          </p:nvGrpSpPr>
          <p:grpSpPr>
            <a:xfrm>
              <a:off x="4257720" y="2525040"/>
              <a:ext cx="206640" cy="151200"/>
              <a:chOff x="4257720" y="2525040"/>
              <a:chExt cx="206640" cy="151200"/>
            </a:xfrm>
          </p:grpSpPr>
          <p:sp>
            <p:nvSpPr>
              <p:cNvPr id="238" name=""/>
              <p:cNvSpPr/>
              <p:nvPr/>
            </p:nvSpPr>
            <p:spPr>
              <a:xfrm>
                <a:off x="4257720" y="252504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4257720" y="257436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257720" y="262512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257720" y="267624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2" name=""/>
            <p:cNvGrpSpPr/>
            <p:nvPr/>
          </p:nvGrpSpPr>
          <p:grpSpPr>
            <a:xfrm>
              <a:off x="4257720" y="4545360"/>
              <a:ext cx="206640" cy="151200"/>
              <a:chOff x="4257720" y="4545360"/>
              <a:chExt cx="206640" cy="151200"/>
            </a:xfrm>
          </p:grpSpPr>
          <p:sp>
            <p:nvSpPr>
              <p:cNvPr id="243" name=""/>
              <p:cNvSpPr/>
              <p:nvPr/>
            </p:nvSpPr>
            <p:spPr>
              <a:xfrm>
                <a:off x="4257720" y="454536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257720" y="459468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257720" y="464544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257720" y="469656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7" name=""/>
            <p:cNvGrpSpPr/>
            <p:nvPr/>
          </p:nvGrpSpPr>
          <p:grpSpPr>
            <a:xfrm>
              <a:off x="3168720" y="3542040"/>
              <a:ext cx="158760" cy="181080"/>
              <a:chOff x="3168720" y="3542040"/>
              <a:chExt cx="158760" cy="181080"/>
            </a:xfrm>
          </p:grpSpPr>
          <p:sp>
            <p:nvSpPr>
              <p:cNvPr id="248" name=""/>
              <p:cNvSpPr/>
              <p:nvPr/>
            </p:nvSpPr>
            <p:spPr>
              <a:xfrm>
                <a:off x="3273840" y="354204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327480" y="354204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220200" y="354204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168720" y="354204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2" name=""/>
            <p:cNvGrpSpPr/>
            <p:nvPr/>
          </p:nvGrpSpPr>
          <p:grpSpPr>
            <a:xfrm>
              <a:off x="5337000" y="3553560"/>
              <a:ext cx="158760" cy="181080"/>
              <a:chOff x="5337000" y="3553560"/>
              <a:chExt cx="158760" cy="181080"/>
            </a:xfrm>
          </p:grpSpPr>
          <p:sp>
            <p:nvSpPr>
              <p:cNvPr id="253" name=""/>
              <p:cNvSpPr/>
              <p:nvPr/>
            </p:nvSpPr>
            <p:spPr>
              <a:xfrm>
                <a:off x="5442120" y="355356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495760" y="355356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388480" y="355356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337000" y="355356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6750000" y="2894040"/>
            <a:ext cx="2226240" cy="1371600"/>
            <a:chOff x="6750000" y="2894040"/>
            <a:chExt cx="2226240" cy="1371600"/>
          </a:xfrm>
        </p:grpSpPr>
        <p:grpSp>
          <p:nvGrpSpPr>
            <p:cNvPr id="258" name=""/>
            <p:cNvGrpSpPr/>
            <p:nvPr/>
          </p:nvGrpSpPr>
          <p:grpSpPr>
            <a:xfrm>
              <a:off x="6750000" y="2894040"/>
              <a:ext cx="286560" cy="1371600"/>
              <a:chOff x="6750000" y="2894040"/>
              <a:chExt cx="286560" cy="1371600"/>
            </a:xfrm>
          </p:grpSpPr>
          <p:sp>
            <p:nvSpPr>
              <p:cNvPr id="259" name=""/>
              <p:cNvSpPr/>
              <p:nvPr/>
            </p:nvSpPr>
            <p:spPr>
              <a:xfrm>
                <a:off x="7036560" y="289404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6750000" y="2894040"/>
                <a:ext cx="286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H="1">
                <a:off x="6750000" y="4265640"/>
                <a:ext cx="286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2" name=""/>
            <p:cNvSpPr/>
            <p:nvPr/>
          </p:nvSpPr>
          <p:spPr>
            <a:xfrm>
              <a:off x="7222680" y="3187800"/>
              <a:ext cx="1753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Thinks and ac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holistically &am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randomly</a:t>
              </a:r>
              <a:endParaRPr b="0" lang="en-US" sz="1800" spc="-1" strike="noStrike">
                <a:solidFill>
                  <a:srgbClr val="ffffff"/>
                </a:solidFill>
                <a:latin typeface="Times New Roman"/>
              </a:endParaRPr>
            </a:p>
          </p:txBody>
        </p:sp>
      </p:grpSp>
      <p:grpSp>
        <p:nvGrpSpPr>
          <p:cNvPr id="263" name=""/>
          <p:cNvGrpSpPr/>
          <p:nvPr/>
        </p:nvGrpSpPr>
        <p:grpSpPr>
          <a:xfrm>
            <a:off x="2554200" y="5905080"/>
            <a:ext cx="3745440" cy="854280"/>
            <a:chOff x="2554200" y="5905080"/>
            <a:chExt cx="3745440" cy="854280"/>
          </a:xfrm>
        </p:grpSpPr>
        <p:sp>
          <p:nvSpPr>
            <p:cNvPr id="264" name=""/>
            <p:cNvSpPr/>
            <p:nvPr/>
          </p:nvSpPr>
          <p:spPr>
            <a:xfrm>
              <a:off x="2554200" y="6116760"/>
              <a:ext cx="3745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Limbic modes - thinking stimula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 </a:t>
              </a:r>
              <a:r>
                <a:rPr b="0" i="1" lang="en-AU" sz="1800" spc="-1" strike="noStrike">
                  <a:solidFill>
                    <a:srgbClr val="000000"/>
                  </a:solidFill>
                  <a:latin typeface="Verdana"/>
                </a:rPr>
                <a:t>by emotions and senses</a:t>
              </a:r>
              <a:endParaRPr b="0" lang="en-US" sz="1800" spc="-1" strike="noStrike">
                <a:solidFill>
                  <a:srgbClr val="ffffff"/>
                </a:solidFill>
                <a:latin typeface="Times New Roman"/>
              </a:endParaRPr>
            </a:p>
          </p:txBody>
        </p:sp>
        <p:grpSp>
          <p:nvGrpSpPr>
            <p:cNvPr id="265" name=""/>
            <p:cNvGrpSpPr/>
            <p:nvPr/>
          </p:nvGrpSpPr>
          <p:grpSpPr>
            <a:xfrm>
              <a:off x="3730680" y="5905080"/>
              <a:ext cx="1417680" cy="221040"/>
              <a:chOff x="3730680" y="5905080"/>
              <a:chExt cx="1417680" cy="221040"/>
            </a:xfrm>
          </p:grpSpPr>
          <p:sp>
            <p:nvSpPr>
              <p:cNvPr id="266" name=""/>
              <p:cNvSpPr/>
              <p:nvPr/>
            </p:nvSpPr>
            <p:spPr>
              <a:xfrm>
                <a:off x="3735720" y="6126120"/>
                <a:ext cx="141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flipV="1">
                <a:off x="3730680" y="5905080"/>
                <a:ext cx="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V="1">
                <a:off x="5137200" y="5905080"/>
                <a:ext cx="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9" name=""/>
          <p:cNvGrpSpPr/>
          <p:nvPr/>
        </p:nvGrpSpPr>
        <p:grpSpPr>
          <a:xfrm>
            <a:off x="2838960" y="880920"/>
            <a:ext cx="3707280" cy="554040"/>
            <a:chOff x="2838960" y="880920"/>
            <a:chExt cx="3707280" cy="554040"/>
          </a:xfrm>
        </p:grpSpPr>
        <p:sp>
          <p:nvSpPr>
            <p:cNvPr id="270" name=""/>
            <p:cNvSpPr/>
            <p:nvPr/>
          </p:nvSpPr>
          <p:spPr>
            <a:xfrm>
              <a:off x="2838960" y="880920"/>
              <a:ext cx="370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Cerebral modes - abstract thinking</a:t>
              </a:r>
              <a:endParaRPr b="0" lang="en-US" sz="1800" spc="-1" strike="noStrike">
                <a:solidFill>
                  <a:srgbClr val="ffffff"/>
                </a:solidFill>
                <a:latin typeface="Times New Roman"/>
              </a:endParaRPr>
            </a:p>
          </p:txBody>
        </p:sp>
        <p:grpSp>
          <p:nvGrpSpPr>
            <p:cNvPr id="271" name=""/>
            <p:cNvGrpSpPr/>
            <p:nvPr/>
          </p:nvGrpSpPr>
          <p:grpSpPr>
            <a:xfrm>
              <a:off x="3617640" y="1213920"/>
              <a:ext cx="1417680" cy="221040"/>
              <a:chOff x="3617640" y="1213920"/>
              <a:chExt cx="1417680" cy="221040"/>
            </a:xfrm>
          </p:grpSpPr>
          <p:sp>
            <p:nvSpPr>
              <p:cNvPr id="272" name=""/>
              <p:cNvSpPr/>
              <p:nvPr/>
            </p:nvSpPr>
            <p:spPr>
              <a:xfrm>
                <a:off x="3622680" y="1213920"/>
                <a:ext cx="141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617640" y="1222200"/>
                <a:ext cx="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024160" y="1222200"/>
                <a:ext cx="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75" name=""/>
          <p:cNvSpPr/>
          <p:nvPr/>
        </p:nvSpPr>
        <p:spPr>
          <a:xfrm>
            <a:off x="7364880" y="6478560"/>
            <a:ext cx="156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Julia Atkin, 2007</a:t>
            </a:r>
            <a:endParaRPr b="0" lang="en-US" sz="1200" spc="-1" strike="noStrike">
              <a:solidFill>
                <a:srgbClr val="ffffff"/>
              </a:solidFill>
              <a:latin typeface="Times New Roman"/>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364880" y="6478560"/>
            <a:ext cx="156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Julia Atkin, 2007</a:t>
            </a:r>
            <a:endParaRPr b="0" lang="en-US" sz="1200" spc="-1" strike="noStrike">
              <a:solidFill>
                <a:srgbClr val="ffffff"/>
              </a:solidFill>
              <a:latin typeface="Times New Roman"/>
            </a:endParaRPr>
          </a:p>
        </p:txBody>
      </p:sp>
      <p:grpSp>
        <p:nvGrpSpPr>
          <p:cNvPr id="277" name=""/>
          <p:cNvGrpSpPr/>
          <p:nvPr/>
        </p:nvGrpSpPr>
        <p:grpSpPr>
          <a:xfrm>
            <a:off x="108000" y="457200"/>
            <a:ext cx="9036000" cy="5333760"/>
            <a:chOff x="108000" y="457200"/>
            <a:chExt cx="9036000" cy="5333760"/>
          </a:xfrm>
        </p:grpSpPr>
        <p:grpSp>
          <p:nvGrpSpPr>
            <p:cNvPr id="278" name=""/>
            <p:cNvGrpSpPr/>
            <p:nvPr/>
          </p:nvGrpSpPr>
          <p:grpSpPr>
            <a:xfrm>
              <a:off x="108000" y="457200"/>
              <a:ext cx="9036000" cy="5333760"/>
              <a:chOff x="108000" y="457200"/>
              <a:chExt cx="9036000" cy="5333760"/>
            </a:xfrm>
          </p:grpSpPr>
          <p:pic>
            <p:nvPicPr>
              <p:cNvPr id="279" name="" descr=""/>
              <p:cNvPicPr/>
              <p:nvPr/>
            </p:nvPicPr>
            <p:blipFill>
              <a:blip r:embed="rId1"/>
              <a:stretch/>
            </p:blipFill>
            <p:spPr>
              <a:xfrm>
                <a:off x="108000" y="457200"/>
                <a:ext cx="4421160" cy="2666880"/>
              </a:xfrm>
              <a:prstGeom prst="rect">
                <a:avLst/>
              </a:prstGeom>
              <a:ln w="0">
                <a:noFill/>
              </a:ln>
            </p:spPr>
          </p:pic>
          <p:pic>
            <p:nvPicPr>
              <p:cNvPr id="280" name="" descr=""/>
              <p:cNvPicPr/>
              <p:nvPr/>
            </p:nvPicPr>
            <p:blipFill>
              <a:blip r:embed="rId2"/>
              <a:stretch/>
            </p:blipFill>
            <p:spPr>
              <a:xfrm>
                <a:off x="108000" y="3124080"/>
                <a:ext cx="4421160" cy="2666880"/>
              </a:xfrm>
              <a:prstGeom prst="rect">
                <a:avLst/>
              </a:prstGeom>
              <a:ln w="0">
                <a:noFill/>
              </a:ln>
            </p:spPr>
          </p:pic>
          <p:pic>
            <p:nvPicPr>
              <p:cNvPr id="281" name="" descr=""/>
              <p:cNvPicPr/>
              <p:nvPr/>
            </p:nvPicPr>
            <p:blipFill>
              <a:blip r:embed="rId3"/>
              <a:stretch/>
            </p:blipFill>
            <p:spPr>
              <a:xfrm>
                <a:off x="4529160" y="3124080"/>
                <a:ext cx="4614840" cy="2651040"/>
              </a:xfrm>
              <a:prstGeom prst="rect">
                <a:avLst/>
              </a:prstGeom>
              <a:ln w="0">
                <a:noFill/>
              </a:ln>
            </p:spPr>
          </p:pic>
          <p:pic>
            <p:nvPicPr>
              <p:cNvPr id="282" name="" descr=""/>
              <p:cNvPicPr/>
              <p:nvPr/>
            </p:nvPicPr>
            <p:blipFill>
              <a:blip r:embed="rId4"/>
              <a:stretch/>
            </p:blipFill>
            <p:spPr>
              <a:xfrm>
                <a:off x="4529160" y="471240"/>
                <a:ext cx="4614840" cy="2652840"/>
              </a:xfrm>
              <a:prstGeom prst="rect">
                <a:avLst/>
              </a:prstGeom>
              <a:ln w="0">
                <a:noFill/>
              </a:ln>
            </p:spPr>
          </p:pic>
        </p:grpSp>
        <p:sp>
          <p:nvSpPr>
            <p:cNvPr id="283" name=""/>
            <p:cNvSpPr/>
            <p:nvPr/>
          </p:nvSpPr>
          <p:spPr>
            <a:xfrm>
              <a:off x="2971800" y="1600200"/>
              <a:ext cx="304812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3047760" y="1600200"/>
              <a:ext cx="297180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5" name=""/>
          <p:cNvGrpSpPr/>
          <p:nvPr/>
        </p:nvGrpSpPr>
        <p:grpSpPr>
          <a:xfrm>
            <a:off x="3124080" y="1828800"/>
            <a:ext cx="2286000" cy="2743200"/>
            <a:chOff x="3124080" y="1828800"/>
            <a:chExt cx="2286000" cy="2743200"/>
          </a:xfrm>
        </p:grpSpPr>
        <p:sp>
          <p:nvSpPr>
            <p:cNvPr id="286" name=""/>
            <p:cNvSpPr/>
            <p:nvPr/>
          </p:nvSpPr>
          <p:spPr>
            <a:xfrm flipH="1">
              <a:off x="3124080" y="1828800"/>
              <a:ext cx="76320" cy="274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3124080" y="3657600"/>
              <a:ext cx="190512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200400" y="1828800"/>
              <a:ext cx="22096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a:off x="5029200" y="2209680"/>
              <a:ext cx="38088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3124080" y="1828800"/>
            <a:ext cx="2286000" cy="2743200"/>
            <a:chOff x="3124080" y="1828800"/>
            <a:chExt cx="2286000" cy="2743200"/>
          </a:xfrm>
        </p:grpSpPr>
        <p:sp>
          <p:nvSpPr>
            <p:cNvPr id="291" name=""/>
            <p:cNvSpPr/>
            <p:nvPr/>
          </p:nvSpPr>
          <p:spPr>
            <a:xfrm flipH="1">
              <a:off x="3124080" y="1828800"/>
              <a:ext cx="76320" cy="274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3124080" y="3657600"/>
              <a:ext cx="190512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200400" y="1828800"/>
              <a:ext cx="22096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5029200" y="2209680"/>
              <a:ext cx="38088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spd="slow">
    <p:pull dir="l"/>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8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90"/>
                                        </p:tgtEl>
                                        <p:attrNameLst>
                                          <p:attrName>style.visibility</p:attrName>
                                        </p:attrNameLst>
                                      </p:cBhvr>
                                      <p:to>
                                        <p:strVal val="visible"/>
                                      </p:to>
                                    </p:set>
                                  </p:childTnLst>
                                </p:cTn>
                              </p:par>
                              <p:set>
                                <p:cBhvr>
                                  <p:cTn id="101" dur="1" fill="hold">
                                    <p:stCondLst>
                                      <p:cond delay="0"/>
                                    </p:stCondLst>
                                  </p:cTn>
                                  <p:tgtEl>
                                    <p:spTgt spid="2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254160"/>
            <a:ext cx="9144000" cy="6298920"/>
          </a:xfrm>
          <a:prstGeom prst="rect">
            <a:avLst/>
          </a:prstGeom>
          <a:ln w="9360">
            <a:solidFill>
              <a:srgbClr val="f1b60f"/>
            </a:solidFill>
            <a:miter/>
          </a:ln>
        </p:spPr>
      </p:pic>
      <p:sp>
        <p:nvSpPr>
          <p:cNvPr id="296" name=""/>
          <p:cNvSpPr/>
          <p:nvPr/>
        </p:nvSpPr>
        <p:spPr>
          <a:xfrm>
            <a:off x="34920" y="287280"/>
            <a:ext cx="4538520" cy="2658960"/>
          </a:xfrm>
          <a:prstGeom prst="rect">
            <a:avLst/>
          </a:prstGeom>
          <a:noFill/>
          <a:ln w="76320">
            <a:solidFill>
              <a:srgbClr val="0e14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0" y="3503520"/>
            <a:ext cx="4538520" cy="2963880"/>
          </a:xfrm>
          <a:prstGeom prst="rect">
            <a:avLst/>
          </a:prstGeom>
          <a:noFill/>
          <a:ln w="76320">
            <a:solidFill>
              <a:srgbClr val="10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4657680" y="3503520"/>
            <a:ext cx="4335480" cy="2946600"/>
          </a:xfrm>
          <a:prstGeom prst="rect">
            <a:avLst/>
          </a:prstGeom>
          <a:noFill/>
          <a:ln w="76320">
            <a:solidFill>
              <a:srgbClr val="e139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4691160" y="287280"/>
            <a:ext cx="4302000" cy="2658960"/>
          </a:xfrm>
          <a:prstGeom prst="rect">
            <a:avLst/>
          </a:prstGeom>
          <a:noFill/>
          <a:ln w="76320">
            <a:solidFill>
              <a:srgbClr val="f8e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5425200" y="6583320"/>
            <a:ext cx="336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Ned Herrmann, </a:t>
            </a:r>
            <a:r>
              <a:rPr b="1" i="1" lang="en-US" sz="1200" spc="-1" strike="noStrike">
                <a:solidFill>
                  <a:srgbClr val="23246c"/>
                </a:solidFill>
                <a:latin typeface="Verdana"/>
              </a:rPr>
              <a:t>The Creative Brain</a:t>
            </a:r>
            <a:r>
              <a:rPr b="1" lang="en-US" sz="1200" spc="-1" strike="noStrike">
                <a:solidFill>
                  <a:srgbClr val="23246c"/>
                </a:solidFill>
                <a:latin typeface="Verdana"/>
              </a:rPr>
              <a:t>, 1989 </a:t>
            </a:r>
            <a:endParaRPr b="0" lang="en-US" sz="1200" spc="-1" strike="noStrike">
              <a:solidFill>
                <a:srgbClr val="ffffff"/>
              </a:solidFill>
              <a:latin typeface="Times New Roman"/>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364880" y="6478560"/>
            <a:ext cx="156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Julia Atkin, 2007</a:t>
            </a:r>
            <a:endParaRPr b="0" lang="en-US" sz="1200" spc="-1" strike="noStrike">
              <a:solidFill>
                <a:srgbClr val="ffffff"/>
              </a:solidFill>
              <a:latin typeface="Times New Roman"/>
            </a:endParaRPr>
          </a:p>
        </p:txBody>
      </p:sp>
      <p:pic>
        <p:nvPicPr>
          <p:cNvPr id="302" name="" descr=""/>
          <p:cNvPicPr/>
          <p:nvPr/>
        </p:nvPicPr>
        <p:blipFill>
          <a:blip r:embed="rId1"/>
          <a:srcRect l="0" t="12866" r="0" b="0"/>
          <a:stretch/>
        </p:blipFill>
        <p:spPr>
          <a:xfrm>
            <a:off x="1403280" y="836640"/>
            <a:ext cx="6459480" cy="7113600"/>
          </a:xfrm>
          <a:prstGeom prst="rect">
            <a:avLst/>
          </a:prstGeom>
          <a:ln w="0">
            <a:noFill/>
          </a:ln>
        </p:spPr>
      </p:pic>
      <p:sp>
        <p:nvSpPr>
          <p:cNvPr id="303" name=""/>
          <p:cNvSpPr/>
          <p:nvPr/>
        </p:nvSpPr>
        <p:spPr>
          <a:xfrm>
            <a:off x="7093080" y="765000"/>
            <a:ext cx="1869840" cy="96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66"/>
                </a:solidFill>
                <a:latin typeface="Verdana"/>
              </a:rPr>
              <a:t>“</a:t>
            </a:r>
            <a:r>
              <a:rPr b="1" i="1" lang="en-GB" sz="1400" spc="-1" strike="noStrike">
                <a:solidFill>
                  <a:srgbClr val="003366"/>
                </a:solidFill>
                <a:latin typeface="Verdana"/>
              </a:rPr>
              <a:t>Learning requires moving outside our comfort zone.”</a:t>
            </a:r>
            <a:endParaRPr b="0" lang="en-US" sz="1400" spc="-1" strike="noStrike">
              <a:solidFill>
                <a:srgbClr val="ffffff"/>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Verdana"/>
              </a:rPr>
              <a:t>(Atkin 2000)</a:t>
            </a:r>
            <a:endParaRPr b="0" lang="en-US" sz="1000" spc="-1" strike="noStrike">
              <a:solidFill>
                <a:srgbClr val="ffffff"/>
              </a:solidFill>
              <a:latin typeface="Times New Roman"/>
            </a:endParaRPr>
          </a:p>
        </p:txBody>
      </p:sp>
      <p:sp>
        <p:nvSpPr>
          <p:cNvPr id="304" name=""/>
          <p:cNvSpPr/>
          <p:nvPr/>
        </p:nvSpPr>
        <p:spPr>
          <a:xfrm>
            <a:off x="250920" y="115920"/>
            <a:ext cx="2232000" cy="209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66"/>
                </a:solidFill>
                <a:latin typeface="Verdana"/>
              </a:rPr>
              <a:t>“</a:t>
            </a:r>
            <a:r>
              <a:rPr b="1" i="1" lang="en-GB" sz="1400" spc="-1" strike="noStrike">
                <a:solidFill>
                  <a:srgbClr val="003366"/>
                </a:solidFill>
                <a:latin typeface="Verdana"/>
              </a:rPr>
              <a:t>If a learner is highly inclined towards one mode of processing … he or she will tend to approach tasks in that mode even when it’s not the more appropriate.”</a:t>
            </a:r>
            <a:endParaRPr b="0" lang="en-US" sz="14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Verdana"/>
              </a:rPr>
              <a:t>(Atkin 2000)</a:t>
            </a:r>
            <a:endParaRPr b="0" lang="en-US" sz="1000" spc="-1" strike="noStrike">
              <a:solidFill>
                <a:srgbClr val="ffffff"/>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305" name=""/>
          <p:cNvSpPr/>
          <p:nvPr/>
        </p:nvSpPr>
        <p:spPr>
          <a:xfrm>
            <a:off x="1711440" y="114480"/>
            <a:ext cx="58417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munication &amp; Learning</a:t>
            </a:r>
            <a:br>
              <a:rPr sz="2400"/>
            </a:br>
            <a:r>
              <a:rPr b="1" lang="en-US" sz="2000" spc="-1" strike="noStrike">
                <a:solidFill>
                  <a:srgbClr val="003366"/>
                </a:solidFill>
                <a:latin typeface="Arial"/>
              </a:rPr>
              <a:t>Likes &amp; Expectations</a:t>
            </a:r>
            <a:endParaRPr b="0" lang="en-US" sz="2000" spc="-1" strike="noStrike">
              <a:solidFill>
                <a:srgbClr val="ffffff"/>
              </a:solidFill>
              <a:latin typeface="Times New Roman"/>
            </a:endParaRPr>
          </a:p>
        </p:txBody>
      </p:sp>
    </p:spTree>
  </p:cSld>
  <p:transition spd="slow">
    <p:pull dir="l"/>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04"/>
                                        </p:tgtEl>
                                        <p:attrNameLst>
                                          <p:attrName>style.visibility</p:attrName>
                                        </p:attrNameLst>
                                      </p:cBhvr>
                                      <p:to>
                                        <p:strVal val="visible"/>
                                      </p:to>
                                    </p:set>
                                    <p:anim calcmode="lin" valueType="num">
                                      <p:cBhvr additive="base">
                                        <p:cTn id="108" dur="500" fill="hold"/>
                                        <p:tgtEl>
                                          <p:spTgt spid="304"/>
                                        </p:tgtEl>
                                        <p:attrNameLst>
                                          <p:attrName>ppt_x</p:attrName>
                                        </p:attrNameLst>
                                      </p:cBhvr>
                                      <p:tavLst>
                                        <p:tav tm="0">
                                          <p:val>
                                            <p:strVal val="#ppt_x"/>
                                          </p:val>
                                        </p:tav>
                                        <p:tav tm="100000">
                                          <p:val>
                                            <p:strVal val="#ppt_x"/>
                                          </p:val>
                                        </p:tav>
                                      </p:tavLst>
                                    </p:anim>
                                    <p:anim calcmode="lin" valueType="num">
                                      <p:cBhvr additive="base">
                                        <p:cTn id="109"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303"/>
                                        </p:tgtEl>
                                        <p:attrNameLst>
                                          <p:attrName>style.visibility</p:attrName>
                                        </p:attrNameLst>
                                      </p:cBhvr>
                                      <p:to>
                                        <p:strVal val="visible"/>
                                      </p:to>
                                    </p:set>
                                    <p:anim calcmode="lin" valueType="num">
                                      <p:cBhvr additive="base">
                                        <p:cTn id="114" dur="500" fill="hold"/>
                                        <p:tgtEl>
                                          <p:spTgt spid="303"/>
                                        </p:tgtEl>
                                        <p:attrNameLst>
                                          <p:attrName>ppt_x</p:attrName>
                                        </p:attrNameLst>
                                      </p:cBhvr>
                                      <p:tavLst>
                                        <p:tav tm="0">
                                          <p:val>
                                            <p:strVal val="#ppt_x"/>
                                          </p:val>
                                        </p:tav>
                                        <p:tav tm="100000">
                                          <p:val>
                                            <p:strVal val="#ppt_x"/>
                                          </p:val>
                                        </p:tav>
                                      </p:tavLst>
                                    </p:anim>
                                    <p:anim calcmode="lin" valueType="num">
                                      <p:cBhvr additive="base">
                                        <p:cTn id="115"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Verdana"/>
              </a:rPr>
              <a:t>Discuss …</a:t>
            </a:r>
            <a:endParaRPr b="1" lang="en-US" sz="3600" spc="-1" strike="noStrike">
              <a:solidFill>
                <a:srgbClr val="003366"/>
              </a:solidFill>
              <a:latin typeface="Verdana"/>
            </a:endParaRPr>
          </a:p>
        </p:txBody>
      </p:sp>
      <p:sp>
        <p:nvSpPr>
          <p:cNvPr id="307"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marL="343080" indent="-3430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Verdana"/>
              </a:rPr>
              <a:t>Can we use this model as a basis for collaborative work with WikiVet?</a:t>
            </a:r>
            <a:endParaRPr b="0" lang="en-US" sz="3000" spc="-1" strike="noStrike">
              <a:solidFill>
                <a:srgbClr val="003366"/>
              </a:solidFill>
              <a:latin typeface="Verdana"/>
            </a:endParaRPr>
          </a:p>
          <a:p>
            <a:pPr lvl="1" marL="743040" indent="-285840">
              <a:spcBef>
                <a:spcPts val="13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Verdana"/>
              </a:rPr>
              <a:t>To facilitate teamwork?</a:t>
            </a:r>
            <a:endParaRPr b="0" lang="en-US" sz="2600" spc="-1" strike="noStrike">
              <a:solidFill>
                <a:srgbClr val="003366"/>
              </a:solidFill>
              <a:latin typeface="Verdana"/>
            </a:endParaRPr>
          </a:p>
          <a:p>
            <a:pPr lvl="1" marL="743040" indent="-285840">
              <a:spcBef>
                <a:spcPts val="13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Verdana"/>
              </a:rPr>
              <a:t>As a model for learners?</a:t>
            </a:r>
            <a:endParaRPr b="0" lang="en-US" sz="2600" spc="-1" strike="noStrike">
              <a:solidFill>
                <a:srgbClr val="003366"/>
              </a:solidFill>
              <a:latin typeface="Verdana"/>
            </a:endParaRPr>
          </a:p>
        </p:txBody>
      </p:sp>
    </p:spTree>
  </p:cSld>
  <p:transition spd="slow" advTm="6000">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820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Julia Atkin’s work</a:t>
            </a:r>
            <a:endParaRPr b="1" lang="en-US" sz="3200" spc="-1" strike="noStrike">
              <a:solidFill>
                <a:srgbClr val="003366"/>
              </a:solidFill>
              <a:latin typeface="Verdana"/>
            </a:endParaRPr>
          </a:p>
        </p:txBody>
      </p:sp>
      <p:sp>
        <p:nvSpPr>
          <p:cNvPr id="52" name="PlaceHolder 2"/>
          <p:cNvSpPr>
            <a:spLocks noGrp="1"/>
          </p:cNvSpPr>
          <p:nvPr>
            <p:ph/>
          </p:nvPr>
        </p:nvSpPr>
        <p:spPr>
          <a:xfrm>
            <a:off x="628200" y="1341000"/>
            <a:ext cx="7543800" cy="4032360"/>
          </a:xfrm>
          <a:prstGeom prst="rect">
            <a:avLst/>
          </a:prstGeom>
          <a:noFill/>
          <a:ln w="0">
            <a:noFill/>
          </a:ln>
        </p:spPr>
        <p:txBody>
          <a:bodyPr lIns="90000" rIns="90000" tIns="46800" bIns="46800" anchor="t">
            <a:normAutofit fontScale="84000"/>
          </a:bodyPr>
          <a:p>
            <a:pPr marL="288000" indent="-288000">
              <a:spcBef>
                <a:spcPts val="18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6600"/>
                </a:solidFill>
                <a:uFillTx/>
                <a:latin typeface="Verdana"/>
                <a:hlinkClick r:id="rId1"/>
              </a:rPr>
              <a:t>www.learning-by-design.com</a:t>
            </a:r>
            <a:endParaRPr b="0" lang="en-US" sz="2400" spc="-1" strike="noStrike">
              <a:solidFill>
                <a:srgbClr val="003366"/>
              </a:solidFill>
              <a:latin typeface="Verdana"/>
            </a:endParaRPr>
          </a:p>
          <a:p>
            <a:pPr marL="288000" indent="-288000">
              <a:spcBef>
                <a:spcPts val="18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Verdana"/>
              </a:rPr>
              <a:t>Educator since 1970s </a:t>
            </a:r>
            <a:br>
              <a:rPr sz="2400"/>
            </a:br>
            <a:r>
              <a:rPr b="0" lang="en-GB" sz="2400" spc="-1" strike="noStrike">
                <a:solidFill>
                  <a:srgbClr val="003366"/>
                </a:solidFill>
                <a:latin typeface="Verdana"/>
              </a:rPr>
              <a:t>(chemistry)</a:t>
            </a:r>
            <a:endParaRPr b="0" lang="en-US" sz="2400" spc="-1" strike="noStrike">
              <a:solidFill>
                <a:srgbClr val="003366"/>
              </a:solidFill>
              <a:latin typeface="Verdana"/>
            </a:endParaRPr>
          </a:p>
          <a:p>
            <a:pPr marL="288000" indent="-288000">
              <a:spcBef>
                <a:spcPts val="18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Verdana"/>
              </a:rPr>
              <a:t>Herrmann (1989) </a:t>
            </a:r>
            <a:r>
              <a:rPr b="0" lang="en-GB" sz="2400" spc="-1" strike="noStrike" u="sng">
                <a:solidFill>
                  <a:srgbClr val="003366"/>
                </a:solidFill>
                <a:uFillTx/>
                <a:latin typeface="Verdana"/>
              </a:rPr>
              <a:t>The Creative Brain</a:t>
            </a:r>
            <a:r>
              <a:rPr b="0" lang="en-GB" sz="2400" spc="-1" strike="noStrike">
                <a:solidFill>
                  <a:srgbClr val="003366"/>
                </a:solidFill>
                <a:latin typeface="Verdana"/>
              </a:rPr>
              <a:t> </a:t>
            </a:r>
            <a:endParaRPr b="0" lang="en-US" sz="2400" spc="-1" strike="noStrike">
              <a:solidFill>
                <a:srgbClr val="003366"/>
              </a:solidFill>
              <a:latin typeface="Verdana"/>
            </a:endParaRPr>
          </a:p>
          <a:p>
            <a:pPr marL="288000" indent="-288000">
              <a:spcBef>
                <a:spcPts val="18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Verdana"/>
              </a:rPr>
              <a:t>Interested in:</a:t>
            </a:r>
            <a:endParaRPr b="0" lang="en-US" sz="2400" spc="-1" strike="noStrike">
              <a:solidFill>
                <a:srgbClr val="003366"/>
              </a:solidFill>
              <a:latin typeface="Verdana"/>
            </a:endParaRPr>
          </a:p>
          <a:p>
            <a:pPr lvl="1" marL="623880" indent="-239760">
              <a:spcBef>
                <a:spcPts val="10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Left brain thinking vs. right brain thinking</a:t>
            </a:r>
            <a:endParaRPr b="0" lang="en-US" sz="2000" spc="-1" strike="noStrike">
              <a:solidFill>
                <a:srgbClr val="003366"/>
              </a:solidFill>
              <a:latin typeface="Verdana"/>
            </a:endParaRPr>
          </a:p>
          <a:p>
            <a:pPr lvl="1" marL="623880" indent="-239760">
              <a:spcBef>
                <a:spcPts val="10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Deep meaning</a:t>
            </a:r>
            <a:endParaRPr b="0" lang="en-US" sz="2000" spc="-1" strike="noStrike">
              <a:solidFill>
                <a:srgbClr val="003366"/>
              </a:solidFill>
              <a:latin typeface="Verdana"/>
            </a:endParaRPr>
          </a:p>
          <a:p>
            <a:pPr lvl="1" marL="623880" indent="-239760">
              <a:spcBef>
                <a:spcPts val="10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Constructivist, experiential approach to learning</a:t>
            </a:r>
            <a:endParaRPr b="0" lang="en-US" sz="2000" spc="-1" strike="noStrike">
              <a:solidFill>
                <a:srgbClr val="003366"/>
              </a:solidFill>
              <a:latin typeface="Verdana"/>
            </a:endParaRPr>
          </a:p>
          <a:p>
            <a:pPr lvl="1" marL="623880" indent="-239760">
              <a:spcBef>
                <a:spcPts val="10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Helping learners to be self-directed, independent, </a:t>
            </a:r>
            <a:br>
              <a:rPr sz="2000"/>
            </a:br>
            <a:r>
              <a:rPr b="0" lang="en-GB" sz="2000" spc="-1" strike="noStrike">
                <a:solidFill>
                  <a:srgbClr val="003366"/>
                </a:solidFill>
                <a:latin typeface="Verdana"/>
              </a:rPr>
              <a:t>intrinsically motivated, learner-centred, collaborative/cooperative</a:t>
            </a:r>
            <a:endParaRPr b="0" lang="en-US" sz="2000" spc="-1" strike="noStrike">
              <a:solidFill>
                <a:srgbClr val="003366"/>
              </a:solidFill>
              <a:latin typeface="Verdana"/>
            </a:endParaRPr>
          </a:p>
          <a:p>
            <a:pPr marL="288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pic>
        <p:nvPicPr>
          <p:cNvPr id="53" name="" descr=""/>
          <p:cNvPicPr/>
          <p:nvPr/>
        </p:nvPicPr>
        <p:blipFill>
          <a:blip r:embed="rId2"/>
          <a:stretch/>
        </p:blipFill>
        <p:spPr>
          <a:xfrm>
            <a:off x="6804000" y="-27000"/>
            <a:ext cx="2003400" cy="2637000"/>
          </a:xfrm>
          <a:prstGeom prst="rect">
            <a:avLst/>
          </a:prstGeom>
          <a:ln w="0">
            <a:noFill/>
          </a:ln>
        </p:spPr>
      </p:pic>
    </p:spTree>
  </p:cSld>
  <p:transition spd="slow" advTm="6000">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000" y="115560"/>
            <a:ext cx="7993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Herrmann’s Creative Brain model</a:t>
            </a:r>
            <a:endParaRPr b="1" lang="en-US" sz="3200" spc="-1" strike="noStrike">
              <a:solidFill>
                <a:srgbClr val="003366"/>
              </a:solidFill>
              <a:latin typeface="Verdana"/>
            </a:endParaRPr>
          </a:p>
        </p:txBody>
      </p:sp>
      <p:sp>
        <p:nvSpPr>
          <p:cNvPr id="55" name="PlaceHolder 2"/>
          <p:cNvSpPr>
            <a:spLocks noGrp="1"/>
          </p:cNvSpPr>
          <p:nvPr>
            <p:ph/>
          </p:nvPr>
        </p:nvSpPr>
        <p:spPr>
          <a:xfrm>
            <a:off x="899640" y="1412640"/>
            <a:ext cx="7543800" cy="1368360"/>
          </a:xfrm>
          <a:prstGeom prst="rect">
            <a:avLst/>
          </a:prstGeom>
          <a:noFill/>
          <a:ln w="0">
            <a:noFill/>
          </a:ln>
        </p:spPr>
        <p:txBody>
          <a:bodyPr lIns="90000" rIns="90000" tIns="46800" bIns="46800" anchor="t">
            <a:normAutofit/>
          </a:bodyPr>
          <a:p>
            <a:pPr marL="343080" indent="-343080">
              <a:spcBef>
                <a:spcPts val="1874"/>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66"/>
                </a:solidFill>
                <a:latin typeface="Verdana"/>
              </a:rPr>
              <a:t>Concerned with “ways of knowing”</a:t>
            </a:r>
            <a:endParaRPr b="0" lang="en-US" sz="2500" spc="-1" strike="noStrike">
              <a:solidFill>
                <a:srgbClr val="003366"/>
              </a:solidFill>
              <a:latin typeface="Verdana"/>
            </a:endParaRPr>
          </a:p>
          <a:p>
            <a:pPr marL="343080" indent="-343080">
              <a:spcBef>
                <a:spcPts val="1874"/>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66"/>
                </a:solidFill>
                <a:latin typeface="Verdana"/>
              </a:rPr>
              <a:t>‘</a:t>
            </a:r>
            <a:r>
              <a:rPr b="0" lang="en-GB" sz="2500" spc="-1" strike="noStrike">
                <a:solidFill>
                  <a:srgbClr val="003366"/>
                </a:solidFill>
                <a:latin typeface="Verdana"/>
              </a:rPr>
              <a:t>Left-brainers’ and ‘right-brainers’</a:t>
            </a:r>
            <a:endParaRPr b="0" lang="en-US" sz="2500" spc="-1" strike="noStrike">
              <a:solidFill>
                <a:srgbClr val="003366"/>
              </a:solidFill>
              <a:latin typeface="Verdana"/>
            </a:endParaRPr>
          </a:p>
        </p:txBody>
      </p:sp>
      <p:pic>
        <p:nvPicPr>
          <p:cNvPr id="56" name="" descr=""/>
          <p:cNvPicPr/>
          <p:nvPr/>
        </p:nvPicPr>
        <p:blipFill>
          <a:blip r:embed="rId1"/>
          <a:stretch/>
        </p:blipFill>
        <p:spPr>
          <a:xfrm>
            <a:off x="4572000" y="2924280"/>
            <a:ext cx="4143240" cy="3206520"/>
          </a:xfrm>
          <a:prstGeom prst="rect">
            <a:avLst/>
          </a:prstGeom>
          <a:ln w="0">
            <a:noFill/>
          </a:ln>
        </p:spPr>
      </p:pic>
      <p:sp>
        <p:nvSpPr>
          <p:cNvPr id="57" name=""/>
          <p:cNvSpPr/>
          <p:nvPr/>
        </p:nvSpPr>
        <p:spPr>
          <a:xfrm>
            <a:off x="322200" y="3135240"/>
            <a:ext cx="3745080" cy="296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66"/>
                </a:solidFill>
                <a:latin typeface="Verdana"/>
              </a:rPr>
              <a:t>“</a:t>
            </a:r>
            <a:r>
              <a:rPr b="0" i="1" lang="en-GB" sz="2000" spc="-1" strike="noStrike">
                <a:solidFill>
                  <a:srgbClr val="003366"/>
                </a:solidFill>
                <a:latin typeface="Verdana"/>
              </a:rPr>
              <a:t>For people whose preferred mode of knowing is visual, what is presented in pictures will get through to them better than a lecture or book with text only”</a:t>
            </a:r>
            <a:r>
              <a:rPr b="0" lang="en-GB" sz="2000" spc="-1" strike="noStrike">
                <a:solidFill>
                  <a:srgbClr val="003366"/>
                </a:solidFill>
                <a:latin typeface="Verdana"/>
              </a:rPr>
              <a:t> </a:t>
            </a:r>
            <a:endParaRPr b="0" lang="en-US" sz="2000" spc="-1" strike="noStrike">
              <a:solidFill>
                <a:srgbClr val="ffffff"/>
              </a:solidFill>
              <a:latin typeface="Times New Roman"/>
            </a:endParaRPr>
          </a:p>
          <a:p>
            <a:pPr lvl="1" marL="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Herrmann 1989)</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advTm="6000">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364880" y="6478560"/>
            <a:ext cx="156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Julia Atkin, 2007</a:t>
            </a:r>
            <a:endParaRPr b="0" lang="en-US" sz="1200" spc="-1" strike="noStrike">
              <a:solidFill>
                <a:srgbClr val="ffffff"/>
              </a:solidFill>
              <a:latin typeface="Times New Roman"/>
            </a:endParaRPr>
          </a:p>
        </p:txBody>
      </p:sp>
      <p:grpSp>
        <p:nvGrpSpPr>
          <p:cNvPr id="59" name=""/>
          <p:cNvGrpSpPr/>
          <p:nvPr/>
        </p:nvGrpSpPr>
        <p:grpSpPr>
          <a:xfrm>
            <a:off x="1641600" y="389160"/>
            <a:ext cx="5968800" cy="6006960"/>
            <a:chOff x="1641600" y="389160"/>
            <a:chExt cx="5968800" cy="6006960"/>
          </a:xfrm>
        </p:grpSpPr>
        <p:grpSp>
          <p:nvGrpSpPr>
            <p:cNvPr id="60" name=""/>
            <p:cNvGrpSpPr/>
            <p:nvPr/>
          </p:nvGrpSpPr>
          <p:grpSpPr>
            <a:xfrm>
              <a:off x="1641600" y="389160"/>
              <a:ext cx="5968800" cy="6006960"/>
              <a:chOff x="1641600" y="389160"/>
              <a:chExt cx="5968800" cy="6006960"/>
            </a:xfrm>
          </p:grpSpPr>
          <p:sp>
            <p:nvSpPr>
              <p:cNvPr id="61" name=""/>
              <p:cNvSpPr/>
              <p:nvPr/>
            </p:nvSpPr>
            <p:spPr>
              <a:xfrm>
                <a:off x="3805200" y="2668680"/>
                <a:ext cx="193680" cy="57240"/>
              </a:xfrm>
              <a:custGeom>
                <a:avLst/>
                <a:gdLst/>
                <a:ahLst/>
                <a:rect l="l" t="t" r="r" b="b"/>
                <a:pathLst>
                  <a:path w="122" h="36">
                    <a:moveTo>
                      <a:pt x="0" y="0"/>
                    </a:moveTo>
                    <a:lnTo>
                      <a:pt x="73" y="24"/>
                    </a:lnTo>
                    <a:lnTo>
                      <a:pt x="122" y="36"/>
                    </a:lnTo>
                    <a:lnTo>
                      <a:pt x="122" y="36"/>
                    </a:lnTo>
                  </a:path>
                </a:pathLst>
              </a:custGeom>
              <a:noFill/>
              <a:ln w="38160">
                <a:solidFill>
                  <a:srgbClr val="e6e6e6"/>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 name=""/>
              <p:cNvSpPr/>
              <p:nvPr/>
            </p:nvSpPr>
            <p:spPr>
              <a:xfrm>
                <a:off x="3824280" y="2687760"/>
                <a:ext cx="193680" cy="38160"/>
              </a:xfrm>
              <a:custGeom>
                <a:avLst/>
                <a:gdLst/>
                <a:ahLst/>
                <a:rect l="l" t="t" r="r" b="b"/>
                <a:pathLst>
                  <a:path w="122" h="24">
                    <a:moveTo>
                      <a:pt x="0" y="0"/>
                    </a:moveTo>
                    <a:lnTo>
                      <a:pt x="73" y="12"/>
                    </a:lnTo>
                    <a:lnTo>
                      <a:pt x="122" y="24"/>
                    </a:lnTo>
                  </a:path>
                </a:pathLst>
              </a:custGeom>
              <a:noFill/>
              <a:ln w="38160">
                <a:solidFill>
                  <a:srgbClr val="e6e6e6"/>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nvGrpSpPr>
              <p:cNvPr id="63" name=""/>
              <p:cNvGrpSpPr/>
              <p:nvPr/>
            </p:nvGrpSpPr>
            <p:grpSpPr>
              <a:xfrm>
                <a:off x="4557600" y="389160"/>
                <a:ext cx="3052800" cy="6006960"/>
                <a:chOff x="4557600" y="389160"/>
                <a:chExt cx="3052800" cy="6006960"/>
              </a:xfrm>
            </p:grpSpPr>
            <p:sp>
              <p:nvSpPr>
                <p:cNvPr id="64" name=""/>
                <p:cNvSpPr/>
                <p:nvPr/>
              </p:nvSpPr>
              <p:spPr>
                <a:xfrm>
                  <a:off x="5543640" y="3267000"/>
                  <a:ext cx="115920" cy="289080"/>
                </a:xfrm>
                <a:custGeom>
                  <a:avLst/>
                  <a:gdLst/>
                  <a:ahLst/>
                  <a:rect l="l" t="t" r="r" b="b"/>
                  <a:pathLst>
                    <a:path w="73" h="182">
                      <a:moveTo>
                        <a:pt x="0" y="0"/>
                      </a:moveTo>
                      <a:lnTo>
                        <a:pt x="24" y="73"/>
                      </a:lnTo>
                      <a:lnTo>
                        <a:pt x="48" y="170"/>
                      </a:lnTo>
                      <a:lnTo>
                        <a:pt x="73" y="182"/>
                      </a:lnTo>
                      <a:lnTo>
                        <a:pt x="73" y="18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562720" y="3286080"/>
                  <a:ext cx="115920" cy="289080"/>
                </a:xfrm>
                <a:custGeom>
                  <a:avLst/>
                  <a:gdLst/>
                  <a:ahLst/>
                  <a:rect l="l" t="t" r="r" b="b"/>
                  <a:pathLst>
                    <a:path w="73" h="182">
                      <a:moveTo>
                        <a:pt x="0" y="0"/>
                      </a:moveTo>
                      <a:lnTo>
                        <a:pt x="36" y="73"/>
                      </a:lnTo>
                      <a:lnTo>
                        <a:pt x="49" y="158"/>
                      </a:lnTo>
                      <a:lnTo>
                        <a:pt x="73" y="18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659560" y="4019760"/>
                  <a:ext cx="154080" cy="579240"/>
                </a:xfrm>
                <a:custGeom>
                  <a:avLst/>
                  <a:gdLst/>
                  <a:ahLst/>
                  <a:rect l="l" t="t" r="r" b="b"/>
                  <a:pathLst>
                    <a:path w="97" h="365">
                      <a:moveTo>
                        <a:pt x="97" y="0"/>
                      </a:moveTo>
                      <a:lnTo>
                        <a:pt x="61" y="73"/>
                      </a:lnTo>
                      <a:lnTo>
                        <a:pt x="0" y="158"/>
                      </a:lnTo>
                      <a:lnTo>
                        <a:pt x="0" y="231"/>
                      </a:lnTo>
                      <a:lnTo>
                        <a:pt x="0" y="317"/>
                      </a:lnTo>
                      <a:lnTo>
                        <a:pt x="48" y="365"/>
                      </a:lnTo>
                      <a:lnTo>
                        <a:pt x="48" y="36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678640" y="4038840"/>
                  <a:ext cx="154080" cy="560160"/>
                </a:xfrm>
                <a:custGeom>
                  <a:avLst/>
                  <a:gdLst/>
                  <a:ahLst/>
                  <a:rect l="l" t="t" r="r" b="b"/>
                  <a:pathLst>
                    <a:path w="97" h="353">
                      <a:moveTo>
                        <a:pt x="97" y="0"/>
                      </a:moveTo>
                      <a:lnTo>
                        <a:pt x="61" y="73"/>
                      </a:lnTo>
                      <a:lnTo>
                        <a:pt x="0" y="146"/>
                      </a:lnTo>
                      <a:lnTo>
                        <a:pt x="0" y="219"/>
                      </a:lnTo>
                      <a:lnTo>
                        <a:pt x="0" y="317"/>
                      </a:lnTo>
                      <a:lnTo>
                        <a:pt x="49" y="35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6083280" y="3962520"/>
                  <a:ext cx="387360" cy="887400"/>
                </a:xfrm>
                <a:custGeom>
                  <a:avLst/>
                  <a:gdLst/>
                  <a:ahLst/>
                  <a:rect l="l" t="t" r="r" b="b"/>
                  <a:pathLst>
                    <a:path w="244" h="559">
                      <a:moveTo>
                        <a:pt x="232" y="0"/>
                      </a:moveTo>
                      <a:lnTo>
                        <a:pt x="244" y="73"/>
                      </a:lnTo>
                      <a:lnTo>
                        <a:pt x="171" y="109"/>
                      </a:lnTo>
                      <a:lnTo>
                        <a:pt x="86" y="134"/>
                      </a:lnTo>
                      <a:lnTo>
                        <a:pt x="13" y="170"/>
                      </a:lnTo>
                      <a:lnTo>
                        <a:pt x="0" y="243"/>
                      </a:lnTo>
                      <a:lnTo>
                        <a:pt x="0" y="328"/>
                      </a:lnTo>
                      <a:lnTo>
                        <a:pt x="49" y="401"/>
                      </a:lnTo>
                      <a:lnTo>
                        <a:pt x="86" y="474"/>
                      </a:lnTo>
                      <a:lnTo>
                        <a:pt x="110" y="547"/>
                      </a:lnTo>
                      <a:lnTo>
                        <a:pt x="134" y="559"/>
                      </a:lnTo>
                      <a:lnTo>
                        <a:pt x="134" y="55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6104160" y="3981600"/>
                  <a:ext cx="385560" cy="888840"/>
                </a:xfrm>
                <a:custGeom>
                  <a:avLst/>
                  <a:gdLst/>
                  <a:ahLst/>
                  <a:rect l="l" t="t" r="r" b="b"/>
                  <a:pathLst>
                    <a:path w="243" h="560">
                      <a:moveTo>
                        <a:pt x="231" y="0"/>
                      </a:moveTo>
                      <a:lnTo>
                        <a:pt x="243" y="73"/>
                      </a:lnTo>
                      <a:lnTo>
                        <a:pt x="170" y="122"/>
                      </a:lnTo>
                      <a:lnTo>
                        <a:pt x="97" y="134"/>
                      </a:lnTo>
                      <a:lnTo>
                        <a:pt x="12" y="182"/>
                      </a:lnTo>
                      <a:lnTo>
                        <a:pt x="0" y="255"/>
                      </a:lnTo>
                      <a:lnTo>
                        <a:pt x="0" y="328"/>
                      </a:lnTo>
                      <a:lnTo>
                        <a:pt x="48" y="401"/>
                      </a:lnTo>
                      <a:lnTo>
                        <a:pt x="97" y="474"/>
                      </a:lnTo>
                      <a:lnTo>
                        <a:pt x="109" y="547"/>
                      </a:lnTo>
                      <a:lnTo>
                        <a:pt x="133" y="56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 name=""/>
                <p:cNvGrpSpPr/>
                <p:nvPr/>
              </p:nvGrpSpPr>
              <p:grpSpPr>
                <a:xfrm>
                  <a:off x="4557600" y="389160"/>
                  <a:ext cx="3052800" cy="6006960"/>
                  <a:chOff x="4557600" y="389160"/>
                  <a:chExt cx="3052800" cy="6006960"/>
                </a:xfrm>
              </p:grpSpPr>
              <p:sp>
                <p:nvSpPr>
                  <p:cNvPr id="71" name=""/>
                  <p:cNvSpPr/>
                  <p:nvPr/>
                </p:nvSpPr>
                <p:spPr>
                  <a:xfrm>
                    <a:off x="4557600" y="389160"/>
                    <a:ext cx="3052800" cy="3186000"/>
                  </a:xfrm>
                  <a:custGeom>
                    <a:avLst/>
                    <a:gdLst/>
                    <a:ahLst/>
                    <a:rect l="l" t="t" r="r" b="b"/>
                    <a:pathLst>
                      <a:path w="1923" h="2007">
                        <a:moveTo>
                          <a:pt x="98" y="523"/>
                        </a:moveTo>
                        <a:lnTo>
                          <a:pt x="49" y="450"/>
                        </a:lnTo>
                        <a:lnTo>
                          <a:pt x="13" y="377"/>
                        </a:lnTo>
                        <a:lnTo>
                          <a:pt x="0" y="292"/>
                        </a:lnTo>
                        <a:lnTo>
                          <a:pt x="37" y="219"/>
                        </a:lnTo>
                        <a:lnTo>
                          <a:pt x="73" y="146"/>
                        </a:lnTo>
                        <a:lnTo>
                          <a:pt x="183" y="73"/>
                        </a:lnTo>
                        <a:lnTo>
                          <a:pt x="268" y="12"/>
                        </a:lnTo>
                        <a:lnTo>
                          <a:pt x="377" y="0"/>
                        </a:lnTo>
                        <a:lnTo>
                          <a:pt x="450" y="0"/>
                        </a:lnTo>
                        <a:lnTo>
                          <a:pt x="523" y="49"/>
                        </a:lnTo>
                        <a:lnTo>
                          <a:pt x="633" y="61"/>
                        </a:lnTo>
                        <a:lnTo>
                          <a:pt x="718" y="61"/>
                        </a:lnTo>
                        <a:lnTo>
                          <a:pt x="815" y="110"/>
                        </a:lnTo>
                        <a:lnTo>
                          <a:pt x="901" y="158"/>
                        </a:lnTo>
                        <a:lnTo>
                          <a:pt x="986" y="219"/>
                        </a:lnTo>
                        <a:lnTo>
                          <a:pt x="1083" y="280"/>
                        </a:lnTo>
                        <a:lnTo>
                          <a:pt x="1180" y="317"/>
                        </a:lnTo>
                        <a:lnTo>
                          <a:pt x="1266" y="353"/>
                        </a:lnTo>
                        <a:lnTo>
                          <a:pt x="1351" y="426"/>
                        </a:lnTo>
                        <a:lnTo>
                          <a:pt x="1436" y="511"/>
                        </a:lnTo>
                        <a:lnTo>
                          <a:pt x="1521" y="584"/>
                        </a:lnTo>
                        <a:lnTo>
                          <a:pt x="1594" y="657"/>
                        </a:lnTo>
                        <a:lnTo>
                          <a:pt x="1643" y="730"/>
                        </a:lnTo>
                        <a:lnTo>
                          <a:pt x="1728" y="803"/>
                        </a:lnTo>
                        <a:lnTo>
                          <a:pt x="1728" y="888"/>
                        </a:lnTo>
                        <a:lnTo>
                          <a:pt x="1789" y="973"/>
                        </a:lnTo>
                        <a:lnTo>
                          <a:pt x="1813" y="1046"/>
                        </a:lnTo>
                        <a:lnTo>
                          <a:pt x="1837" y="1119"/>
                        </a:lnTo>
                        <a:lnTo>
                          <a:pt x="1837" y="1192"/>
                        </a:lnTo>
                        <a:lnTo>
                          <a:pt x="1837" y="1265"/>
                        </a:lnTo>
                        <a:lnTo>
                          <a:pt x="1874" y="1338"/>
                        </a:lnTo>
                        <a:lnTo>
                          <a:pt x="1923" y="1411"/>
                        </a:lnTo>
                        <a:lnTo>
                          <a:pt x="1923" y="1484"/>
                        </a:lnTo>
                        <a:lnTo>
                          <a:pt x="1923" y="1582"/>
                        </a:lnTo>
                        <a:lnTo>
                          <a:pt x="1837" y="1655"/>
                        </a:lnTo>
                        <a:lnTo>
                          <a:pt x="1752" y="1667"/>
                        </a:lnTo>
                        <a:lnTo>
                          <a:pt x="1837" y="1679"/>
                        </a:lnTo>
                        <a:lnTo>
                          <a:pt x="1923" y="1740"/>
                        </a:lnTo>
                        <a:lnTo>
                          <a:pt x="1898" y="1813"/>
                        </a:lnTo>
                        <a:lnTo>
                          <a:pt x="1886" y="1886"/>
                        </a:lnTo>
                        <a:lnTo>
                          <a:pt x="1874" y="1959"/>
                        </a:lnTo>
                        <a:lnTo>
                          <a:pt x="1874" y="2007"/>
                        </a:lnTo>
                        <a:lnTo>
                          <a:pt x="1874" y="2007"/>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4578480" y="408240"/>
                    <a:ext cx="3031920" cy="3187440"/>
                  </a:xfrm>
                  <a:custGeom>
                    <a:avLst/>
                    <a:gdLst/>
                    <a:ahLst/>
                    <a:rect l="l" t="t" r="r" b="b"/>
                    <a:pathLst>
                      <a:path w="1910" h="2008">
                        <a:moveTo>
                          <a:pt x="97" y="524"/>
                        </a:moveTo>
                        <a:lnTo>
                          <a:pt x="48" y="451"/>
                        </a:lnTo>
                        <a:lnTo>
                          <a:pt x="12" y="378"/>
                        </a:lnTo>
                        <a:lnTo>
                          <a:pt x="0" y="292"/>
                        </a:lnTo>
                        <a:lnTo>
                          <a:pt x="36" y="219"/>
                        </a:lnTo>
                        <a:lnTo>
                          <a:pt x="72" y="146"/>
                        </a:lnTo>
                        <a:lnTo>
                          <a:pt x="182" y="73"/>
                        </a:lnTo>
                        <a:lnTo>
                          <a:pt x="267" y="13"/>
                        </a:lnTo>
                        <a:lnTo>
                          <a:pt x="364" y="0"/>
                        </a:lnTo>
                        <a:lnTo>
                          <a:pt x="450" y="0"/>
                        </a:lnTo>
                        <a:lnTo>
                          <a:pt x="523" y="49"/>
                        </a:lnTo>
                        <a:lnTo>
                          <a:pt x="632" y="61"/>
                        </a:lnTo>
                        <a:lnTo>
                          <a:pt x="705" y="61"/>
                        </a:lnTo>
                        <a:lnTo>
                          <a:pt x="815" y="110"/>
                        </a:lnTo>
                        <a:lnTo>
                          <a:pt x="900" y="159"/>
                        </a:lnTo>
                        <a:lnTo>
                          <a:pt x="985" y="219"/>
                        </a:lnTo>
                        <a:lnTo>
                          <a:pt x="1082" y="280"/>
                        </a:lnTo>
                        <a:lnTo>
                          <a:pt x="1180" y="317"/>
                        </a:lnTo>
                        <a:lnTo>
                          <a:pt x="1265" y="353"/>
                        </a:lnTo>
                        <a:lnTo>
                          <a:pt x="1338" y="426"/>
                        </a:lnTo>
                        <a:lnTo>
                          <a:pt x="1435" y="511"/>
                        </a:lnTo>
                        <a:lnTo>
                          <a:pt x="1508" y="584"/>
                        </a:lnTo>
                        <a:lnTo>
                          <a:pt x="1593" y="657"/>
                        </a:lnTo>
                        <a:lnTo>
                          <a:pt x="1642" y="730"/>
                        </a:lnTo>
                        <a:lnTo>
                          <a:pt x="1727" y="803"/>
                        </a:lnTo>
                        <a:lnTo>
                          <a:pt x="1727" y="889"/>
                        </a:lnTo>
                        <a:lnTo>
                          <a:pt x="1788" y="974"/>
                        </a:lnTo>
                        <a:lnTo>
                          <a:pt x="1812" y="1047"/>
                        </a:lnTo>
                        <a:lnTo>
                          <a:pt x="1837" y="1120"/>
                        </a:lnTo>
                        <a:lnTo>
                          <a:pt x="1837" y="1193"/>
                        </a:lnTo>
                        <a:lnTo>
                          <a:pt x="1837" y="1266"/>
                        </a:lnTo>
                        <a:lnTo>
                          <a:pt x="1873" y="1339"/>
                        </a:lnTo>
                        <a:lnTo>
                          <a:pt x="1910" y="1412"/>
                        </a:lnTo>
                        <a:lnTo>
                          <a:pt x="1910" y="1485"/>
                        </a:lnTo>
                        <a:lnTo>
                          <a:pt x="1910" y="1582"/>
                        </a:lnTo>
                        <a:lnTo>
                          <a:pt x="1837" y="1655"/>
                        </a:lnTo>
                        <a:lnTo>
                          <a:pt x="1739" y="1667"/>
                        </a:lnTo>
                        <a:lnTo>
                          <a:pt x="1837" y="1679"/>
                        </a:lnTo>
                        <a:lnTo>
                          <a:pt x="1910" y="1740"/>
                        </a:lnTo>
                        <a:lnTo>
                          <a:pt x="1897" y="1813"/>
                        </a:lnTo>
                        <a:lnTo>
                          <a:pt x="1885" y="1886"/>
                        </a:lnTo>
                        <a:lnTo>
                          <a:pt x="1873" y="1959"/>
                        </a:lnTo>
                        <a:lnTo>
                          <a:pt x="1873" y="200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7126200" y="3556080"/>
                    <a:ext cx="425520" cy="250920"/>
                  </a:xfrm>
                  <a:custGeom>
                    <a:avLst/>
                    <a:gdLst/>
                    <a:ahLst/>
                    <a:rect l="l" t="t" r="r" b="b"/>
                    <a:pathLst>
                      <a:path w="268" h="158">
                        <a:moveTo>
                          <a:pt x="268" y="0"/>
                        </a:moveTo>
                        <a:lnTo>
                          <a:pt x="232" y="73"/>
                        </a:lnTo>
                        <a:lnTo>
                          <a:pt x="207" y="146"/>
                        </a:lnTo>
                        <a:lnTo>
                          <a:pt x="134" y="158"/>
                        </a:lnTo>
                        <a:lnTo>
                          <a:pt x="25" y="134"/>
                        </a:lnTo>
                        <a:lnTo>
                          <a:pt x="0" y="61"/>
                        </a:lnTo>
                        <a:lnTo>
                          <a:pt x="25" y="61"/>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7147080" y="3575160"/>
                    <a:ext cx="423720" cy="252360"/>
                  </a:xfrm>
                  <a:custGeom>
                    <a:avLst/>
                    <a:gdLst/>
                    <a:ahLst/>
                    <a:rect l="l" t="t" r="r" b="b"/>
                    <a:pathLst>
                      <a:path w="267" h="159">
                        <a:moveTo>
                          <a:pt x="267" y="0"/>
                        </a:moveTo>
                        <a:lnTo>
                          <a:pt x="231" y="73"/>
                        </a:lnTo>
                        <a:lnTo>
                          <a:pt x="206" y="146"/>
                        </a:lnTo>
                        <a:lnTo>
                          <a:pt x="121" y="159"/>
                        </a:lnTo>
                        <a:lnTo>
                          <a:pt x="12" y="134"/>
                        </a:lnTo>
                        <a:lnTo>
                          <a:pt x="0" y="61"/>
                        </a:lnTo>
                        <a:lnTo>
                          <a:pt x="12" y="61"/>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6856560" y="3807000"/>
                    <a:ext cx="541080" cy="522360"/>
                  </a:xfrm>
                  <a:custGeom>
                    <a:avLst/>
                    <a:gdLst/>
                    <a:ahLst/>
                    <a:rect l="l" t="t" r="r" b="b"/>
                    <a:pathLst>
                      <a:path w="341" h="329">
                        <a:moveTo>
                          <a:pt x="341" y="0"/>
                        </a:moveTo>
                        <a:lnTo>
                          <a:pt x="341" y="98"/>
                        </a:lnTo>
                        <a:lnTo>
                          <a:pt x="329" y="171"/>
                        </a:lnTo>
                        <a:lnTo>
                          <a:pt x="304" y="244"/>
                        </a:lnTo>
                        <a:lnTo>
                          <a:pt x="195" y="292"/>
                        </a:lnTo>
                        <a:lnTo>
                          <a:pt x="110" y="317"/>
                        </a:lnTo>
                        <a:lnTo>
                          <a:pt x="37" y="329"/>
                        </a:lnTo>
                        <a:lnTo>
                          <a:pt x="0" y="305"/>
                        </a:lnTo>
                        <a:lnTo>
                          <a:pt x="0" y="30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6875640" y="3827520"/>
                    <a:ext cx="541080" cy="520920"/>
                  </a:xfrm>
                  <a:custGeom>
                    <a:avLst/>
                    <a:gdLst/>
                    <a:ahLst/>
                    <a:rect l="l" t="t" r="r" b="b"/>
                    <a:pathLst>
                      <a:path w="341" h="328">
                        <a:moveTo>
                          <a:pt x="341" y="0"/>
                        </a:moveTo>
                        <a:lnTo>
                          <a:pt x="341" y="85"/>
                        </a:lnTo>
                        <a:lnTo>
                          <a:pt x="329" y="158"/>
                        </a:lnTo>
                        <a:lnTo>
                          <a:pt x="292" y="243"/>
                        </a:lnTo>
                        <a:lnTo>
                          <a:pt x="183" y="279"/>
                        </a:lnTo>
                        <a:lnTo>
                          <a:pt x="110" y="316"/>
                        </a:lnTo>
                        <a:lnTo>
                          <a:pt x="37" y="328"/>
                        </a:lnTo>
                        <a:lnTo>
                          <a:pt x="0" y="29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6064200" y="4310280"/>
                    <a:ext cx="1177920" cy="1717560"/>
                  </a:xfrm>
                  <a:custGeom>
                    <a:avLst/>
                    <a:gdLst/>
                    <a:ahLst/>
                    <a:rect l="l" t="t" r="r" b="b"/>
                    <a:pathLst>
                      <a:path w="742" h="1082">
                        <a:moveTo>
                          <a:pt x="742" y="0"/>
                        </a:moveTo>
                        <a:lnTo>
                          <a:pt x="742" y="73"/>
                        </a:lnTo>
                        <a:lnTo>
                          <a:pt x="742" y="146"/>
                        </a:lnTo>
                        <a:lnTo>
                          <a:pt x="718" y="219"/>
                        </a:lnTo>
                        <a:lnTo>
                          <a:pt x="633" y="267"/>
                        </a:lnTo>
                        <a:lnTo>
                          <a:pt x="669" y="340"/>
                        </a:lnTo>
                        <a:lnTo>
                          <a:pt x="609" y="413"/>
                        </a:lnTo>
                        <a:lnTo>
                          <a:pt x="633" y="511"/>
                        </a:lnTo>
                        <a:lnTo>
                          <a:pt x="609" y="584"/>
                        </a:lnTo>
                        <a:lnTo>
                          <a:pt x="584" y="657"/>
                        </a:lnTo>
                        <a:lnTo>
                          <a:pt x="536" y="730"/>
                        </a:lnTo>
                        <a:lnTo>
                          <a:pt x="463" y="803"/>
                        </a:lnTo>
                        <a:lnTo>
                          <a:pt x="365" y="863"/>
                        </a:lnTo>
                        <a:lnTo>
                          <a:pt x="317" y="936"/>
                        </a:lnTo>
                        <a:lnTo>
                          <a:pt x="268" y="1009"/>
                        </a:lnTo>
                        <a:lnTo>
                          <a:pt x="183" y="1058"/>
                        </a:lnTo>
                        <a:lnTo>
                          <a:pt x="98" y="1022"/>
                        </a:lnTo>
                        <a:lnTo>
                          <a:pt x="0" y="1046"/>
                        </a:lnTo>
                        <a:lnTo>
                          <a:pt x="0" y="1082"/>
                        </a:lnTo>
                        <a:lnTo>
                          <a:pt x="0" y="108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6083280" y="4329360"/>
                    <a:ext cx="1179720" cy="1719000"/>
                  </a:xfrm>
                  <a:custGeom>
                    <a:avLst/>
                    <a:gdLst/>
                    <a:ahLst/>
                    <a:rect l="l" t="t" r="r" b="b"/>
                    <a:pathLst>
                      <a:path w="743" h="1083">
                        <a:moveTo>
                          <a:pt x="743" y="0"/>
                        </a:moveTo>
                        <a:lnTo>
                          <a:pt x="743" y="73"/>
                        </a:lnTo>
                        <a:lnTo>
                          <a:pt x="743" y="146"/>
                        </a:lnTo>
                        <a:lnTo>
                          <a:pt x="730" y="219"/>
                        </a:lnTo>
                        <a:lnTo>
                          <a:pt x="633" y="268"/>
                        </a:lnTo>
                        <a:lnTo>
                          <a:pt x="682" y="341"/>
                        </a:lnTo>
                        <a:lnTo>
                          <a:pt x="621" y="413"/>
                        </a:lnTo>
                        <a:lnTo>
                          <a:pt x="633" y="511"/>
                        </a:lnTo>
                        <a:lnTo>
                          <a:pt x="621" y="584"/>
                        </a:lnTo>
                        <a:lnTo>
                          <a:pt x="584" y="657"/>
                        </a:lnTo>
                        <a:lnTo>
                          <a:pt x="536" y="730"/>
                        </a:lnTo>
                        <a:lnTo>
                          <a:pt x="463" y="803"/>
                        </a:lnTo>
                        <a:lnTo>
                          <a:pt x="365" y="864"/>
                        </a:lnTo>
                        <a:lnTo>
                          <a:pt x="329" y="937"/>
                        </a:lnTo>
                        <a:lnTo>
                          <a:pt x="280" y="1010"/>
                        </a:lnTo>
                        <a:lnTo>
                          <a:pt x="183" y="1058"/>
                        </a:lnTo>
                        <a:lnTo>
                          <a:pt x="110" y="1022"/>
                        </a:lnTo>
                        <a:lnTo>
                          <a:pt x="0" y="1046"/>
                        </a:lnTo>
                        <a:lnTo>
                          <a:pt x="0" y="108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4713480" y="1162080"/>
                    <a:ext cx="1312560" cy="5234040"/>
                  </a:xfrm>
                  <a:custGeom>
                    <a:avLst/>
                    <a:gdLst/>
                    <a:ahLst/>
                    <a:rect l="l" t="t" r="r" b="b"/>
                    <a:pathLst>
                      <a:path w="827" h="3297">
                        <a:moveTo>
                          <a:pt x="827" y="3053"/>
                        </a:moveTo>
                        <a:lnTo>
                          <a:pt x="766" y="3126"/>
                        </a:lnTo>
                        <a:lnTo>
                          <a:pt x="705" y="3224"/>
                        </a:lnTo>
                        <a:lnTo>
                          <a:pt x="620" y="3236"/>
                        </a:lnTo>
                        <a:lnTo>
                          <a:pt x="523" y="3272"/>
                        </a:lnTo>
                        <a:lnTo>
                          <a:pt x="425" y="3272"/>
                        </a:lnTo>
                        <a:lnTo>
                          <a:pt x="340" y="3272"/>
                        </a:lnTo>
                        <a:lnTo>
                          <a:pt x="255" y="3297"/>
                        </a:lnTo>
                        <a:lnTo>
                          <a:pt x="146" y="3236"/>
                        </a:lnTo>
                        <a:lnTo>
                          <a:pt x="109" y="3138"/>
                        </a:lnTo>
                        <a:lnTo>
                          <a:pt x="73" y="3065"/>
                        </a:lnTo>
                        <a:lnTo>
                          <a:pt x="73" y="2992"/>
                        </a:lnTo>
                        <a:lnTo>
                          <a:pt x="85" y="2919"/>
                        </a:lnTo>
                        <a:lnTo>
                          <a:pt x="121" y="2846"/>
                        </a:lnTo>
                        <a:lnTo>
                          <a:pt x="146" y="2773"/>
                        </a:lnTo>
                        <a:lnTo>
                          <a:pt x="133" y="2700"/>
                        </a:lnTo>
                        <a:lnTo>
                          <a:pt x="121" y="2627"/>
                        </a:lnTo>
                        <a:lnTo>
                          <a:pt x="121" y="2554"/>
                        </a:lnTo>
                        <a:lnTo>
                          <a:pt x="109" y="2469"/>
                        </a:lnTo>
                        <a:lnTo>
                          <a:pt x="73" y="2384"/>
                        </a:lnTo>
                        <a:lnTo>
                          <a:pt x="85" y="2311"/>
                        </a:lnTo>
                        <a:lnTo>
                          <a:pt x="146" y="2238"/>
                        </a:lnTo>
                        <a:lnTo>
                          <a:pt x="146" y="2165"/>
                        </a:lnTo>
                        <a:lnTo>
                          <a:pt x="121" y="2092"/>
                        </a:lnTo>
                        <a:lnTo>
                          <a:pt x="133" y="2007"/>
                        </a:lnTo>
                        <a:lnTo>
                          <a:pt x="133" y="1934"/>
                        </a:lnTo>
                        <a:lnTo>
                          <a:pt x="73" y="1861"/>
                        </a:lnTo>
                        <a:lnTo>
                          <a:pt x="60" y="1788"/>
                        </a:lnTo>
                        <a:lnTo>
                          <a:pt x="85" y="1703"/>
                        </a:lnTo>
                        <a:lnTo>
                          <a:pt x="85" y="1606"/>
                        </a:lnTo>
                        <a:lnTo>
                          <a:pt x="85" y="1520"/>
                        </a:lnTo>
                        <a:lnTo>
                          <a:pt x="85" y="1447"/>
                        </a:lnTo>
                        <a:lnTo>
                          <a:pt x="48" y="1375"/>
                        </a:lnTo>
                        <a:lnTo>
                          <a:pt x="24" y="1302"/>
                        </a:lnTo>
                        <a:lnTo>
                          <a:pt x="0" y="1229"/>
                        </a:lnTo>
                        <a:lnTo>
                          <a:pt x="24" y="1156"/>
                        </a:lnTo>
                        <a:lnTo>
                          <a:pt x="73" y="985"/>
                        </a:lnTo>
                        <a:lnTo>
                          <a:pt x="109" y="912"/>
                        </a:lnTo>
                        <a:lnTo>
                          <a:pt x="109" y="839"/>
                        </a:lnTo>
                        <a:lnTo>
                          <a:pt x="109" y="766"/>
                        </a:lnTo>
                        <a:lnTo>
                          <a:pt x="121" y="693"/>
                        </a:lnTo>
                        <a:lnTo>
                          <a:pt x="109" y="620"/>
                        </a:lnTo>
                        <a:lnTo>
                          <a:pt x="48" y="535"/>
                        </a:lnTo>
                        <a:lnTo>
                          <a:pt x="24" y="462"/>
                        </a:lnTo>
                        <a:lnTo>
                          <a:pt x="60" y="389"/>
                        </a:lnTo>
                        <a:lnTo>
                          <a:pt x="85" y="304"/>
                        </a:lnTo>
                        <a:lnTo>
                          <a:pt x="73" y="231"/>
                        </a:lnTo>
                        <a:lnTo>
                          <a:pt x="60" y="158"/>
                        </a:lnTo>
                        <a:lnTo>
                          <a:pt x="73" y="73"/>
                        </a:lnTo>
                        <a:lnTo>
                          <a:pt x="60" y="0"/>
                        </a:lnTo>
                        <a:lnTo>
                          <a:pt x="133" y="0"/>
                        </a:lnTo>
                        <a:lnTo>
                          <a:pt x="231" y="24"/>
                        </a:lnTo>
                        <a:lnTo>
                          <a:pt x="316" y="49"/>
                        </a:lnTo>
                        <a:lnTo>
                          <a:pt x="413" y="73"/>
                        </a:lnTo>
                        <a:lnTo>
                          <a:pt x="511" y="109"/>
                        </a:lnTo>
                        <a:lnTo>
                          <a:pt x="596" y="109"/>
                        </a:lnTo>
                        <a:lnTo>
                          <a:pt x="681" y="97"/>
                        </a:lnTo>
                        <a:lnTo>
                          <a:pt x="742" y="73"/>
                        </a:lnTo>
                        <a:lnTo>
                          <a:pt x="742" y="7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4732560" y="1181160"/>
                    <a:ext cx="1331640" cy="5214960"/>
                  </a:xfrm>
                  <a:custGeom>
                    <a:avLst/>
                    <a:gdLst/>
                    <a:ahLst/>
                    <a:rect l="l" t="t" r="r" b="b"/>
                    <a:pathLst>
                      <a:path w="839" h="3285">
                        <a:moveTo>
                          <a:pt x="839" y="3053"/>
                        </a:moveTo>
                        <a:lnTo>
                          <a:pt x="766" y="3126"/>
                        </a:lnTo>
                        <a:lnTo>
                          <a:pt x="705" y="3212"/>
                        </a:lnTo>
                        <a:lnTo>
                          <a:pt x="620" y="3224"/>
                        </a:lnTo>
                        <a:lnTo>
                          <a:pt x="523" y="3272"/>
                        </a:lnTo>
                        <a:lnTo>
                          <a:pt x="438" y="3272"/>
                        </a:lnTo>
                        <a:lnTo>
                          <a:pt x="340" y="3272"/>
                        </a:lnTo>
                        <a:lnTo>
                          <a:pt x="267" y="3285"/>
                        </a:lnTo>
                        <a:lnTo>
                          <a:pt x="158" y="3224"/>
                        </a:lnTo>
                        <a:lnTo>
                          <a:pt x="109" y="3139"/>
                        </a:lnTo>
                        <a:lnTo>
                          <a:pt x="73" y="3066"/>
                        </a:lnTo>
                        <a:lnTo>
                          <a:pt x="73" y="2993"/>
                        </a:lnTo>
                        <a:lnTo>
                          <a:pt x="97" y="2920"/>
                        </a:lnTo>
                        <a:lnTo>
                          <a:pt x="121" y="2847"/>
                        </a:lnTo>
                        <a:lnTo>
                          <a:pt x="158" y="2774"/>
                        </a:lnTo>
                        <a:lnTo>
                          <a:pt x="134" y="2688"/>
                        </a:lnTo>
                        <a:lnTo>
                          <a:pt x="121" y="2615"/>
                        </a:lnTo>
                        <a:lnTo>
                          <a:pt x="121" y="2542"/>
                        </a:lnTo>
                        <a:lnTo>
                          <a:pt x="109" y="2469"/>
                        </a:lnTo>
                        <a:lnTo>
                          <a:pt x="73" y="2384"/>
                        </a:lnTo>
                        <a:lnTo>
                          <a:pt x="97" y="2311"/>
                        </a:lnTo>
                        <a:lnTo>
                          <a:pt x="158" y="2226"/>
                        </a:lnTo>
                        <a:lnTo>
                          <a:pt x="158" y="2153"/>
                        </a:lnTo>
                        <a:lnTo>
                          <a:pt x="121" y="2080"/>
                        </a:lnTo>
                        <a:lnTo>
                          <a:pt x="134" y="2007"/>
                        </a:lnTo>
                        <a:lnTo>
                          <a:pt x="134" y="1934"/>
                        </a:lnTo>
                        <a:lnTo>
                          <a:pt x="73" y="1861"/>
                        </a:lnTo>
                        <a:lnTo>
                          <a:pt x="61" y="1788"/>
                        </a:lnTo>
                        <a:lnTo>
                          <a:pt x="97" y="1691"/>
                        </a:lnTo>
                        <a:lnTo>
                          <a:pt x="97" y="1606"/>
                        </a:lnTo>
                        <a:lnTo>
                          <a:pt x="97" y="1521"/>
                        </a:lnTo>
                        <a:lnTo>
                          <a:pt x="97" y="1448"/>
                        </a:lnTo>
                        <a:lnTo>
                          <a:pt x="48" y="1375"/>
                        </a:lnTo>
                        <a:lnTo>
                          <a:pt x="36" y="1290"/>
                        </a:lnTo>
                        <a:lnTo>
                          <a:pt x="0" y="1217"/>
                        </a:lnTo>
                        <a:lnTo>
                          <a:pt x="36" y="1144"/>
                        </a:lnTo>
                        <a:lnTo>
                          <a:pt x="73" y="985"/>
                        </a:lnTo>
                        <a:lnTo>
                          <a:pt x="109" y="912"/>
                        </a:lnTo>
                        <a:lnTo>
                          <a:pt x="109" y="827"/>
                        </a:lnTo>
                        <a:lnTo>
                          <a:pt x="109" y="754"/>
                        </a:lnTo>
                        <a:lnTo>
                          <a:pt x="121" y="681"/>
                        </a:lnTo>
                        <a:lnTo>
                          <a:pt x="109" y="608"/>
                        </a:lnTo>
                        <a:lnTo>
                          <a:pt x="48" y="535"/>
                        </a:lnTo>
                        <a:lnTo>
                          <a:pt x="36" y="462"/>
                        </a:lnTo>
                        <a:lnTo>
                          <a:pt x="61" y="389"/>
                        </a:lnTo>
                        <a:lnTo>
                          <a:pt x="97" y="292"/>
                        </a:lnTo>
                        <a:lnTo>
                          <a:pt x="73" y="219"/>
                        </a:lnTo>
                        <a:lnTo>
                          <a:pt x="61" y="146"/>
                        </a:lnTo>
                        <a:lnTo>
                          <a:pt x="73" y="73"/>
                        </a:lnTo>
                        <a:lnTo>
                          <a:pt x="61" y="0"/>
                        </a:lnTo>
                        <a:lnTo>
                          <a:pt x="134" y="0"/>
                        </a:lnTo>
                        <a:lnTo>
                          <a:pt x="231" y="12"/>
                        </a:lnTo>
                        <a:lnTo>
                          <a:pt x="328" y="49"/>
                        </a:lnTo>
                        <a:lnTo>
                          <a:pt x="413" y="73"/>
                        </a:lnTo>
                        <a:lnTo>
                          <a:pt x="511" y="110"/>
                        </a:lnTo>
                        <a:lnTo>
                          <a:pt x="608" y="110"/>
                        </a:lnTo>
                        <a:lnTo>
                          <a:pt x="681" y="85"/>
                        </a:lnTo>
                        <a:lnTo>
                          <a:pt x="742" y="7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199200" y="1278000"/>
                    <a:ext cx="463680" cy="366840"/>
                  </a:xfrm>
                  <a:custGeom>
                    <a:avLst/>
                    <a:gdLst/>
                    <a:ahLst/>
                    <a:rect l="l" t="t" r="r" b="b"/>
                    <a:pathLst>
                      <a:path w="292" h="231">
                        <a:moveTo>
                          <a:pt x="0" y="0"/>
                        </a:moveTo>
                        <a:lnTo>
                          <a:pt x="86" y="49"/>
                        </a:lnTo>
                        <a:lnTo>
                          <a:pt x="159" y="122"/>
                        </a:lnTo>
                        <a:lnTo>
                          <a:pt x="256" y="182"/>
                        </a:lnTo>
                        <a:lnTo>
                          <a:pt x="292" y="231"/>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219720" y="1297080"/>
                    <a:ext cx="463680" cy="347760"/>
                  </a:xfrm>
                  <a:custGeom>
                    <a:avLst/>
                    <a:gdLst/>
                    <a:ahLst/>
                    <a:rect l="l" t="t" r="r" b="b"/>
                    <a:pathLst>
                      <a:path w="292" h="219">
                        <a:moveTo>
                          <a:pt x="0" y="0"/>
                        </a:moveTo>
                        <a:lnTo>
                          <a:pt x="73" y="49"/>
                        </a:lnTo>
                        <a:lnTo>
                          <a:pt x="158" y="122"/>
                        </a:lnTo>
                        <a:lnTo>
                          <a:pt x="243" y="183"/>
                        </a:lnTo>
                        <a:lnTo>
                          <a:pt x="292"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6662880" y="1741680"/>
                    <a:ext cx="522360" cy="347400"/>
                  </a:xfrm>
                  <a:custGeom>
                    <a:avLst/>
                    <a:gdLst/>
                    <a:ahLst/>
                    <a:rect l="l" t="t" r="r" b="b"/>
                    <a:pathLst>
                      <a:path w="329" h="219">
                        <a:moveTo>
                          <a:pt x="0" y="73"/>
                        </a:moveTo>
                        <a:lnTo>
                          <a:pt x="49" y="0"/>
                        </a:lnTo>
                        <a:lnTo>
                          <a:pt x="122" y="24"/>
                        </a:lnTo>
                        <a:lnTo>
                          <a:pt x="219" y="73"/>
                        </a:lnTo>
                        <a:lnTo>
                          <a:pt x="292" y="146"/>
                        </a:lnTo>
                        <a:lnTo>
                          <a:pt x="329" y="219"/>
                        </a:lnTo>
                        <a:lnTo>
                          <a:pt x="292" y="219"/>
                        </a:lnTo>
                        <a:lnTo>
                          <a:pt x="292"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6683400" y="1760760"/>
                    <a:ext cx="520920" cy="347400"/>
                  </a:xfrm>
                  <a:custGeom>
                    <a:avLst/>
                    <a:gdLst/>
                    <a:ahLst/>
                    <a:rect l="l" t="t" r="r" b="b"/>
                    <a:pathLst>
                      <a:path w="328" h="219">
                        <a:moveTo>
                          <a:pt x="0" y="73"/>
                        </a:moveTo>
                        <a:lnTo>
                          <a:pt x="48" y="0"/>
                        </a:lnTo>
                        <a:lnTo>
                          <a:pt x="121" y="24"/>
                        </a:lnTo>
                        <a:lnTo>
                          <a:pt x="219" y="73"/>
                        </a:lnTo>
                        <a:lnTo>
                          <a:pt x="292" y="146"/>
                        </a:lnTo>
                        <a:lnTo>
                          <a:pt x="328" y="219"/>
                        </a:lnTo>
                        <a:lnTo>
                          <a:pt x="292"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944960" y="1857600"/>
                    <a:ext cx="2221200" cy="1833480"/>
                  </a:xfrm>
                  <a:custGeom>
                    <a:avLst/>
                    <a:gdLst/>
                    <a:ahLst/>
                    <a:rect l="l" t="t" r="r" b="b"/>
                    <a:pathLst>
                      <a:path w="1399" h="1155">
                        <a:moveTo>
                          <a:pt x="133" y="0"/>
                        </a:moveTo>
                        <a:lnTo>
                          <a:pt x="24" y="48"/>
                        </a:lnTo>
                        <a:lnTo>
                          <a:pt x="0" y="121"/>
                        </a:lnTo>
                        <a:lnTo>
                          <a:pt x="48" y="194"/>
                        </a:lnTo>
                        <a:lnTo>
                          <a:pt x="146" y="267"/>
                        </a:lnTo>
                        <a:lnTo>
                          <a:pt x="231" y="316"/>
                        </a:lnTo>
                        <a:lnTo>
                          <a:pt x="340" y="340"/>
                        </a:lnTo>
                        <a:lnTo>
                          <a:pt x="425" y="365"/>
                        </a:lnTo>
                        <a:lnTo>
                          <a:pt x="511" y="401"/>
                        </a:lnTo>
                        <a:lnTo>
                          <a:pt x="608" y="413"/>
                        </a:lnTo>
                        <a:lnTo>
                          <a:pt x="705" y="486"/>
                        </a:lnTo>
                        <a:lnTo>
                          <a:pt x="766" y="559"/>
                        </a:lnTo>
                        <a:lnTo>
                          <a:pt x="827" y="657"/>
                        </a:lnTo>
                        <a:lnTo>
                          <a:pt x="912" y="718"/>
                        </a:lnTo>
                        <a:lnTo>
                          <a:pt x="997" y="766"/>
                        </a:lnTo>
                        <a:lnTo>
                          <a:pt x="1107" y="815"/>
                        </a:lnTo>
                        <a:lnTo>
                          <a:pt x="1180" y="827"/>
                        </a:lnTo>
                        <a:lnTo>
                          <a:pt x="1277" y="827"/>
                        </a:lnTo>
                        <a:lnTo>
                          <a:pt x="1362" y="864"/>
                        </a:lnTo>
                        <a:lnTo>
                          <a:pt x="1399" y="937"/>
                        </a:lnTo>
                        <a:lnTo>
                          <a:pt x="1399" y="1009"/>
                        </a:lnTo>
                        <a:lnTo>
                          <a:pt x="1314" y="1058"/>
                        </a:lnTo>
                        <a:lnTo>
                          <a:pt x="1204" y="1131"/>
                        </a:lnTo>
                        <a:lnTo>
                          <a:pt x="1131" y="1155"/>
                        </a:lnTo>
                        <a:lnTo>
                          <a:pt x="1143" y="1143"/>
                        </a:lnTo>
                        <a:lnTo>
                          <a:pt x="1143" y="114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4964040" y="1876680"/>
                    <a:ext cx="2202120" cy="1834920"/>
                  </a:xfrm>
                  <a:custGeom>
                    <a:avLst/>
                    <a:gdLst/>
                    <a:ahLst/>
                    <a:rect l="l" t="t" r="r" b="b"/>
                    <a:pathLst>
                      <a:path w="1387" h="1156">
                        <a:moveTo>
                          <a:pt x="121" y="0"/>
                        </a:moveTo>
                        <a:lnTo>
                          <a:pt x="12" y="49"/>
                        </a:lnTo>
                        <a:lnTo>
                          <a:pt x="0" y="122"/>
                        </a:lnTo>
                        <a:lnTo>
                          <a:pt x="48" y="195"/>
                        </a:lnTo>
                        <a:lnTo>
                          <a:pt x="134" y="268"/>
                        </a:lnTo>
                        <a:lnTo>
                          <a:pt x="231" y="316"/>
                        </a:lnTo>
                        <a:lnTo>
                          <a:pt x="340" y="341"/>
                        </a:lnTo>
                        <a:lnTo>
                          <a:pt x="413" y="377"/>
                        </a:lnTo>
                        <a:lnTo>
                          <a:pt x="511" y="401"/>
                        </a:lnTo>
                        <a:lnTo>
                          <a:pt x="608" y="414"/>
                        </a:lnTo>
                        <a:lnTo>
                          <a:pt x="693" y="487"/>
                        </a:lnTo>
                        <a:lnTo>
                          <a:pt x="754" y="560"/>
                        </a:lnTo>
                        <a:lnTo>
                          <a:pt x="815" y="657"/>
                        </a:lnTo>
                        <a:lnTo>
                          <a:pt x="912" y="718"/>
                        </a:lnTo>
                        <a:lnTo>
                          <a:pt x="985" y="779"/>
                        </a:lnTo>
                        <a:lnTo>
                          <a:pt x="1095" y="815"/>
                        </a:lnTo>
                        <a:lnTo>
                          <a:pt x="1180" y="827"/>
                        </a:lnTo>
                        <a:lnTo>
                          <a:pt x="1265" y="827"/>
                        </a:lnTo>
                        <a:lnTo>
                          <a:pt x="1362" y="864"/>
                        </a:lnTo>
                        <a:lnTo>
                          <a:pt x="1387" y="937"/>
                        </a:lnTo>
                        <a:lnTo>
                          <a:pt x="1387" y="1010"/>
                        </a:lnTo>
                        <a:lnTo>
                          <a:pt x="1314" y="1058"/>
                        </a:lnTo>
                        <a:lnTo>
                          <a:pt x="1204" y="1131"/>
                        </a:lnTo>
                        <a:lnTo>
                          <a:pt x="1131" y="1156"/>
                        </a:lnTo>
                        <a:lnTo>
                          <a:pt x="1143" y="114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543640" y="2049480"/>
                    <a:ext cx="1293840" cy="676440"/>
                  </a:xfrm>
                  <a:custGeom>
                    <a:avLst/>
                    <a:gdLst/>
                    <a:ahLst/>
                    <a:rect l="l" t="t" r="r" b="b"/>
                    <a:pathLst>
                      <a:path w="815" h="426">
                        <a:moveTo>
                          <a:pt x="0" y="0"/>
                        </a:moveTo>
                        <a:lnTo>
                          <a:pt x="97" y="0"/>
                        </a:lnTo>
                        <a:lnTo>
                          <a:pt x="182" y="13"/>
                        </a:lnTo>
                        <a:lnTo>
                          <a:pt x="280" y="13"/>
                        </a:lnTo>
                        <a:lnTo>
                          <a:pt x="353" y="86"/>
                        </a:lnTo>
                        <a:lnTo>
                          <a:pt x="450" y="110"/>
                        </a:lnTo>
                        <a:lnTo>
                          <a:pt x="535" y="171"/>
                        </a:lnTo>
                        <a:lnTo>
                          <a:pt x="620" y="219"/>
                        </a:lnTo>
                        <a:lnTo>
                          <a:pt x="705" y="292"/>
                        </a:lnTo>
                        <a:lnTo>
                          <a:pt x="791" y="353"/>
                        </a:lnTo>
                        <a:lnTo>
                          <a:pt x="815" y="426"/>
                        </a:lnTo>
                        <a:lnTo>
                          <a:pt x="803" y="426"/>
                        </a:lnTo>
                        <a:lnTo>
                          <a:pt x="803" y="42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562720" y="2070360"/>
                    <a:ext cx="1293840" cy="674640"/>
                  </a:xfrm>
                  <a:custGeom>
                    <a:avLst/>
                    <a:gdLst/>
                    <a:ahLst/>
                    <a:rect l="l" t="t" r="r" b="b"/>
                    <a:pathLst>
                      <a:path w="815" h="425">
                        <a:moveTo>
                          <a:pt x="0" y="0"/>
                        </a:moveTo>
                        <a:lnTo>
                          <a:pt x="97" y="0"/>
                        </a:lnTo>
                        <a:lnTo>
                          <a:pt x="182" y="12"/>
                        </a:lnTo>
                        <a:lnTo>
                          <a:pt x="280" y="12"/>
                        </a:lnTo>
                        <a:lnTo>
                          <a:pt x="353" y="85"/>
                        </a:lnTo>
                        <a:lnTo>
                          <a:pt x="450" y="121"/>
                        </a:lnTo>
                        <a:lnTo>
                          <a:pt x="535" y="182"/>
                        </a:lnTo>
                        <a:lnTo>
                          <a:pt x="620" y="219"/>
                        </a:lnTo>
                        <a:lnTo>
                          <a:pt x="706" y="292"/>
                        </a:lnTo>
                        <a:lnTo>
                          <a:pt x="791" y="352"/>
                        </a:lnTo>
                        <a:lnTo>
                          <a:pt x="815" y="425"/>
                        </a:lnTo>
                        <a:lnTo>
                          <a:pt x="803" y="42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6759720" y="2590920"/>
                    <a:ext cx="579240" cy="270000"/>
                  </a:xfrm>
                  <a:custGeom>
                    <a:avLst/>
                    <a:gdLst/>
                    <a:ahLst/>
                    <a:rect l="l" t="t" r="r" b="b"/>
                    <a:pathLst>
                      <a:path w="365" h="170">
                        <a:moveTo>
                          <a:pt x="365" y="170"/>
                        </a:moveTo>
                        <a:lnTo>
                          <a:pt x="280" y="85"/>
                        </a:lnTo>
                        <a:lnTo>
                          <a:pt x="195" y="37"/>
                        </a:lnTo>
                        <a:lnTo>
                          <a:pt x="110" y="12"/>
                        </a:lnTo>
                        <a:lnTo>
                          <a:pt x="0" y="0"/>
                        </a:lnTo>
                        <a:lnTo>
                          <a:pt x="0" y="0"/>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6778800" y="2610000"/>
                    <a:ext cx="560160" cy="290520"/>
                  </a:xfrm>
                  <a:custGeom>
                    <a:avLst/>
                    <a:gdLst/>
                    <a:ahLst/>
                    <a:rect l="l" t="t" r="r" b="b"/>
                    <a:pathLst>
                      <a:path w="353" h="183">
                        <a:moveTo>
                          <a:pt x="353" y="183"/>
                        </a:moveTo>
                        <a:lnTo>
                          <a:pt x="280" y="85"/>
                        </a:lnTo>
                        <a:lnTo>
                          <a:pt x="183" y="49"/>
                        </a:lnTo>
                        <a:lnTo>
                          <a:pt x="110" y="12"/>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338960" y="2513160"/>
                    <a:ext cx="212760" cy="231840"/>
                  </a:xfrm>
                  <a:custGeom>
                    <a:avLst/>
                    <a:gdLst/>
                    <a:ahLst/>
                    <a:rect l="l" t="t" r="r" b="b"/>
                    <a:pathLst>
                      <a:path w="134" h="146">
                        <a:moveTo>
                          <a:pt x="0" y="0"/>
                        </a:moveTo>
                        <a:lnTo>
                          <a:pt x="61" y="73"/>
                        </a:lnTo>
                        <a:lnTo>
                          <a:pt x="122" y="146"/>
                        </a:lnTo>
                        <a:lnTo>
                          <a:pt x="134" y="146"/>
                        </a:lnTo>
                        <a:lnTo>
                          <a:pt x="134" y="1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358040" y="2533680"/>
                    <a:ext cx="212760" cy="231840"/>
                  </a:xfrm>
                  <a:custGeom>
                    <a:avLst/>
                    <a:gdLst/>
                    <a:ahLst/>
                    <a:rect l="l" t="t" r="r" b="b"/>
                    <a:pathLst>
                      <a:path w="134" h="146">
                        <a:moveTo>
                          <a:pt x="0" y="0"/>
                        </a:moveTo>
                        <a:lnTo>
                          <a:pt x="61" y="73"/>
                        </a:lnTo>
                        <a:lnTo>
                          <a:pt x="122" y="146"/>
                        </a:lnTo>
                        <a:lnTo>
                          <a:pt x="134" y="1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5369040" y="2938680"/>
                    <a:ext cx="850680" cy="752400"/>
                  </a:xfrm>
                  <a:custGeom>
                    <a:avLst/>
                    <a:gdLst/>
                    <a:ahLst/>
                    <a:rect l="l" t="t" r="r" b="b"/>
                    <a:pathLst>
                      <a:path w="536" h="474">
                        <a:moveTo>
                          <a:pt x="0" y="0"/>
                        </a:moveTo>
                        <a:lnTo>
                          <a:pt x="98" y="61"/>
                        </a:lnTo>
                        <a:lnTo>
                          <a:pt x="171" y="134"/>
                        </a:lnTo>
                        <a:lnTo>
                          <a:pt x="244" y="207"/>
                        </a:lnTo>
                        <a:lnTo>
                          <a:pt x="353" y="243"/>
                        </a:lnTo>
                        <a:lnTo>
                          <a:pt x="438" y="304"/>
                        </a:lnTo>
                        <a:lnTo>
                          <a:pt x="536" y="316"/>
                        </a:lnTo>
                        <a:lnTo>
                          <a:pt x="475" y="389"/>
                        </a:lnTo>
                        <a:lnTo>
                          <a:pt x="523" y="462"/>
                        </a:lnTo>
                        <a:lnTo>
                          <a:pt x="536" y="47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5388120" y="2957760"/>
                    <a:ext cx="850680" cy="753840"/>
                  </a:xfrm>
                  <a:custGeom>
                    <a:avLst/>
                    <a:gdLst/>
                    <a:ahLst/>
                    <a:rect l="l" t="t" r="r" b="b"/>
                    <a:pathLst>
                      <a:path w="536" h="475">
                        <a:moveTo>
                          <a:pt x="0" y="0"/>
                        </a:moveTo>
                        <a:lnTo>
                          <a:pt x="98" y="61"/>
                        </a:lnTo>
                        <a:lnTo>
                          <a:pt x="171" y="134"/>
                        </a:lnTo>
                        <a:lnTo>
                          <a:pt x="244" y="207"/>
                        </a:lnTo>
                        <a:lnTo>
                          <a:pt x="353" y="244"/>
                        </a:lnTo>
                        <a:lnTo>
                          <a:pt x="438" y="292"/>
                        </a:lnTo>
                        <a:lnTo>
                          <a:pt x="536" y="316"/>
                        </a:lnTo>
                        <a:lnTo>
                          <a:pt x="475" y="389"/>
                        </a:lnTo>
                        <a:lnTo>
                          <a:pt x="524" y="462"/>
                        </a:lnTo>
                        <a:lnTo>
                          <a:pt x="536" y="47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6219720" y="3345120"/>
                    <a:ext cx="617760" cy="114120"/>
                  </a:xfrm>
                  <a:custGeom>
                    <a:avLst/>
                    <a:gdLst/>
                    <a:ahLst/>
                    <a:rect l="l" t="t" r="r" b="b"/>
                    <a:pathLst>
                      <a:path w="389" h="72">
                        <a:moveTo>
                          <a:pt x="389" y="0"/>
                        </a:moveTo>
                        <a:lnTo>
                          <a:pt x="304" y="12"/>
                        </a:lnTo>
                        <a:lnTo>
                          <a:pt x="219" y="12"/>
                        </a:lnTo>
                        <a:lnTo>
                          <a:pt x="97" y="48"/>
                        </a:lnTo>
                        <a:lnTo>
                          <a:pt x="24" y="60"/>
                        </a:lnTo>
                        <a:lnTo>
                          <a:pt x="0" y="72"/>
                        </a:lnTo>
                        <a:lnTo>
                          <a:pt x="0" y="7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6238800" y="3363840"/>
                    <a:ext cx="617760" cy="115920"/>
                  </a:xfrm>
                  <a:custGeom>
                    <a:avLst/>
                    <a:gdLst/>
                    <a:ahLst/>
                    <a:rect l="l" t="t" r="r" b="b"/>
                    <a:pathLst>
                      <a:path w="389" h="73">
                        <a:moveTo>
                          <a:pt x="389" y="0"/>
                        </a:moveTo>
                        <a:lnTo>
                          <a:pt x="292" y="12"/>
                        </a:lnTo>
                        <a:lnTo>
                          <a:pt x="219" y="12"/>
                        </a:lnTo>
                        <a:lnTo>
                          <a:pt x="97" y="48"/>
                        </a:lnTo>
                        <a:lnTo>
                          <a:pt x="12" y="60"/>
                        </a:lnTo>
                        <a:lnTo>
                          <a:pt x="0" y="7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470640" y="4097520"/>
                    <a:ext cx="328680" cy="501480"/>
                  </a:xfrm>
                  <a:custGeom>
                    <a:avLst/>
                    <a:gdLst/>
                    <a:ahLst/>
                    <a:rect l="l" t="t" r="r" b="b"/>
                    <a:pathLst>
                      <a:path w="207" h="316">
                        <a:moveTo>
                          <a:pt x="170" y="0"/>
                        </a:moveTo>
                        <a:lnTo>
                          <a:pt x="158" y="73"/>
                        </a:lnTo>
                        <a:lnTo>
                          <a:pt x="170" y="146"/>
                        </a:lnTo>
                        <a:lnTo>
                          <a:pt x="207" y="219"/>
                        </a:lnTo>
                        <a:lnTo>
                          <a:pt x="146" y="304"/>
                        </a:lnTo>
                        <a:lnTo>
                          <a:pt x="61" y="316"/>
                        </a:lnTo>
                        <a:lnTo>
                          <a:pt x="0" y="304"/>
                        </a:lnTo>
                        <a:lnTo>
                          <a:pt x="0" y="30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489720" y="4116600"/>
                    <a:ext cx="328680" cy="501480"/>
                  </a:xfrm>
                  <a:custGeom>
                    <a:avLst/>
                    <a:gdLst/>
                    <a:ahLst/>
                    <a:rect l="l" t="t" r="r" b="b"/>
                    <a:pathLst>
                      <a:path w="207" h="316">
                        <a:moveTo>
                          <a:pt x="170" y="0"/>
                        </a:moveTo>
                        <a:lnTo>
                          <a:pt x="158" y="73"/>
                        </a:lnTo>
                        <a:lnTo>
                          <a:pt x="170" y="146"/>
                        </a:lnTo>
                        <a:lnTo>
                          <a:pt x="207" y="219"/>
                        </a:lnTo>
                        <a:lnTo>
                          <a:pt x="134" y="292"/>
                        </a:lnTo>
                        <a:lnTo>
                          <a:pt x="61" y="316"/>
                        </a:lnTo>
                        <a:lnTo>
                          <a:pt x="0" y="29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527880" y="4638600"/>
                    <a:ext cx="77760" cy="231840"/>
                  </a:xfrm>
                  <a:custGeom>
                    <a:avLst/>
                    <a:gdLst/>
                    <a:ahLst/>
                    <a:rect l="l" t="t" r="r" b="b"/>
                    <a:pathLst>
                      <a:path w="49" h="146">
                        <a:moveTo>
                          <a:pt x="49" y="0"/>
                        </a:moveTo>
                        <a:lnTo>
                          <a:pt x="49" y="73"/>
                        </a:lnTo>
                        <a:lnTo>
                          <a:pt x="0" y="146"/>
                        </a:lnTo>
                        <a:lnTo>
                          <a:pt x="0" y="146"/>
                        </a:lnTo>
                        <a:lnTo>
                          <a:pt x="0" y="1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546960" y="4657680"/>
                    <a:ext cx="77760" cy="231840"/>
                  </a:xfrm>
                  <a:custGeom>
                    <a:avLst/>
                    <a:gdLst/>
                    <a:ahLst/>
                    <a:rect l="l" t="t" r="r" b="b"/>
                    <a:pathLst>
                      <a:path w="49" h="146">
                        <a:moveTo>
                          <a:pt x="49" y="0"/>
                        </a:moveTo>
                        <a:lnTo>
                          <a:pt x="49" y="73"/>
                        </a:lnTo>
                        <a:lnTo>
                          <a:pt x="0" y="1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214960" y="5043600"/>
                    <a:ext cx="405000" cy="135000"/>
                  </a:xfrm>
                  <a:custGeom>
                    <a:avLst/>
                    <a:gdLst/>
                    <a:ahLst/>
                    <a:rect l="l" t="t" r="r" b="b"/>
                    <a:pathLst>
                      <a:path w="255" h="85">
                        <a:moveTo>
                          <a:pt x="0" y="0"/>
                        </a:moveTo>
                        <a:lnTo>
                          <a:pt x="49" y="85"/>
                        </a:lnTo>
                        <a:lnTo>
                          <a:pt x="170" y="85"/>
                        </a:lnTo>
                        <a:lnTo>
                          <a:pt x="255" y="85"/>
                        </a:lnTo>
                        <a:lnTo>
                          <a:pt x="255" y="7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234040" y="5062680"/>
                    <a:ext cx="385920" cy="135000"/>
                  </a:xfrm>
                  <a:custGeom>
                    <a:avLst/>
                    <a:gdLst/>
                    <a:ahLst/>
                    <a:rect l="l" t="t" r="r" b="b"/>
                    <a:pathLst>
                      <a:path w="243" h="85">
                        <a:moveTo>
                          <a:pt x="0" y="0"/>
                        </a:moveTo>
                        <a:lnTo>
                          <a:pt x="49" y="85"/>
                        </a:lnTo>
                        <a:lnTo>
                          <a:pt x="170" y="85"/>
                        </a:lnTo>
                        <a:lnTo>
                          <a:pt x="243" y="85"/>
                        </a:lnTo>
                        <a:lnTo>
                          <a:pt x="243" y="7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446800" y="5275440"/>
                    <a:ext cx="360" cy="154080"/>
                  </a:xfrm>
                  <a:custGeom>
                    <a:avLst/>
                    <a:gdLst/>
                    <a:ahLst/>
                    <a:rect l="l" t="t" r="r" b="b"/>
                    <a:pathLst>
                      <a:path w="0" h="97">
                        <a:moveTo>
                          <a:pt x="0" y="0"/>
                        </a:moveTo>
                        <a:lnTo>
                          <a:pt x="0" y="73"/>
                        </a:lnTo>
                        <a:lnTo>
                          <a:pt x="0" y="97"/>
                        </a:lnTo>
                        <a:lnTo>
                          <a:pt x="0" y="97"/>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465880" y="5294520"/>
                    <a:ext cx="360" cy="135000"/>
                  </a:xfrm>
                  <a:custGeom>
                    <a:avLst/>
                    <a:gdLst/>
                    <a:ahLst/>
                    <a:rect l="l" t="t" r="r" b="b"/>
                    <a:pathLst>
                      <a:path w="0" h="85">
                        <a:moveTo>
                          <a:pt x="0" y="0"/>
                        </a:moveTo>
                        <a:lnTo>
                          <a:pt x="0" y="73"/>
                        </a:lnTo>
                        <a:lnTo>
                          <a:pt x="0" y="8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756400" y="5216760"/>
                    <a:ext cx="191880" cy="347400"/>
                  </a:xfrm>
                  <a:custGeom>
                    <a:avLst/>
                    <a:gdLst/>
                    <a:ahLst/>
                    <a:rect l="l" t="t" r="r" b="b"/>
                    <a:pathLst>
                      <a:path w="121" h="219">
                        <a:moveTo>
                          <a:pt x="121" y="0"/>
                        </a:moveTo>
                        <a:lnTo>
                          <a:pt x="85" y="73"/>
                        </a:lnTo>
                        <a:lnTo>
                          <a:pt x="24" y="146"/>
                        </a:lnTo>
                        <a:lnTo>
                          <a:pt x="24" y="219"/>
                        </a:lnTo>
                        <a:lnTo>
                          <a:pt x="0" y="207"/>
                        </a:lnTo>
                        <a:lnTo>
                          <a:pt x="0" y="207"/>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775480" y="5237280"/>
                    <a:ext cx="191880" cy="347760"/>
                  </a:xfrm>
                  <a:custGeom>
                    <a:avLst/>
                    <a:gdLst/>
                    <a:ahLst/>
                    <a:rect l="l" t="t" r="r" b="b"/>
                    <a:pathLst>
                      <a:path w="121" h="219">
                        <a:moveTo>
                          <a:pt x="121" y="0"/>
                        </a:moveTo>
                        <a:lnTo>
                          <a:pt x="73" y="73"/>
                        </a:lnTo>
                        <a:lnTo>
                          <a:pt x="12" y="146"/>
                        </a:lnTo>
                        <a:lnTo>
                          <a:pt x="12" y="219"/>
                        </a:lnTo>
                        <a:lnTo>
                          <a:pt x="0" y="20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99200" y="5391360"/>
                    <a:ext cx="155520" cy="269640"/>
                  </a:xfrm>
                  <a:custGeom>
                    <a:avLst/>
                    <a:gdLst/>
                    <a:ahLst/>
                    <a:rect l="l" t="t" r="r" b="b"/>
                    <a:pathLst>
                      <a:path w="98" h="170">
                        <a:moveTo>
                          <a:pt x="98" y="0"/>
                        </a:moveTo>
                        <a:lnTo>
                          <a:pt x="86" y="73"/>
                        </a:lnTo>
                        <a:lnTo>
                          <a:pt x="49" y="158"/>
                        </a:lnTo>
                        <a:lnTo>
                          <a:pt x="0" y="170"/>
                        </a:lnTo>
                        <a:lnTo>
                          <a:pt x="0" y="17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219720" y="5410440"/>
                    <a:ext cx="154080" cy="250560"/>
                  </a:xfrm>
                  <a:custGeom>
                    <a:avLst/>
                    <a:gdLst/>
                    <a:ahLst/>
                    <a:rect l="l" t="t" r="r" b="b"/>
                    <a:pathLst>
                      <a:path w="97" h="158">
                        <a:moveTo>
                          <a:pt x="97" y="0"/>
                        </a:moveTo>
                        <a:lnTo>
                          <a:pt x="73" y="73"/>
                        </a:lnTo>
                        <a:lnTo>
                          <a:pt x="48" y="146"/>
                        </a:lnTo>
                        <a:lnTo>
                          <a:pt x="0"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369040" y="5680080"/>
                    <a:ext cx="366840" cy="347760"/>
                  </a:xfrm>
                  <a:custGeom>
                    <a:avLst/>
                    <a:gdLst/>
                    <a:ahLst/>
                    <a:rect l="l" t="t" r="r" b="b"/>
                    <a:pathLst>
                      <a:path w="231" h="219">
                        <a:moveTo>
                          <a:pt x="0" y="0"/>
                        </a:moveTo>
                        <a:lnTo>
                          <a:pt x="73" y="73"/>
                        </a:lnTo>
                        <a:lnTo>
                          <a:pt x="171" y="110"/>
                        </a:lnTo>
                        <a:lnTo>
                          <a:pt x="219" y="183"/>
                        </a:lnTo>
                        <a:lnTo>
                          <a:pt x="231" y="219"/>
                        </a:lnTo>
                        <a:lnTo>
                          <a:pt x="231"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388120" y="5700960"/>
                    <a:ext cx="368280" cy="347400"/>
                  </a:xfrm>
                  <a:custGeom>
                    <a:avLst/>
                    <a:gdLst/>
                    <a:ahLst/>
                    <a:rect l="l" t="t" r="r" b="b"/>
                    <a:pathLst>
                      <a:path w="232" h="219">
                        <a:moveTo>
                          <a:pt x="0" y="0"/>
                        </a:moveTo>
                        <a:lnTo>
                          <a:pt x="73" y="73"/>
                        </a:lnTo>
                        <a:lnTo>
                          <a:pt x="171" y="109"/>
                        </a:lnTo>
                        <a:lnTo>
                          <a:pt x="219" y="182"/>
                        </a:lnTo>
                        <a:lnTo>
                          <a:pt x="232"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 name=""/>
              <p:cNvSpPr/>
              <p:nvPr/>
            </p:nvSpPr>
            <p:spPr>
              <a:xfrm>
                <a:off x="4557600" y="2475000"/>
                <a:ext cx="250920" cy="1236600"/>
              </a:xfrm>
              <a:custGeom>
                <a:avLst/>
                <a:gdLst/>
                <a:ahLst/>
                <a:rect l="l" t="t" r="r" b="b"/>
                <a:pathLst>
                  <a:path w="158" h="779">
                    <a:moveTo>
                      <a:pt x="98" y="718"/>
                    </a:moveTo>
                    <a:lnTo>
                      <a:pt x="49" y="645"/>
                    </a:lnTo>
                    <a:lnTo>
                      <a:pt x="122" y="645"/>
                    </a:lnTo>
                    <a:lnTo>
                      <a:pt x="49" y="633"/>
                    </a:lnTo>
                    <a:lnTo>
                      <a:pt x="37" y="548"/>
                    </a:lnTo>
                    <a:lnTo>
                      <a:pt x="98" y="475"/>
                    </a:lnTo>
                    <a:lnTo>
                      <a:pt x="110" y="548"/>
                    </a:lnTo>
                    <a:lnTo>
                      <a:pt x="158" y="633"/>
                    </a:lnTo>
                    <a:lnTo>
                      <a:pt x="158" y="706"/>
                    </a:lnTo>
                    <a:lnTo>
                      <a:pt x="134" y="779"/>
                    </a:lnTo>
                    <a:lnTo>
                      <a:pt x="61" y="742"/>
                    </a:lnTo>
                    <a:lnTo>
                      <a:pt x="0" y="669"/>
                    </a:lnTo>
                    <a:lnTo>
                      <a:pt x="37" y="596"/>
                    </a:lnTo>
                    <a:lnTo>
                      <a:pt x="49" y="523"/>
                    </a:lnTo>
                    <a:lnTo>
                      <a:pt x="73" y="450"/>
                    </a:lnTo>
                    <a:lnTo>
                      <a:pt x="110" y="377"/>
                    </a:lnTo>
                    <a:lnTo>
                      <a:pt x="110" y="304"/>
                    </a:lnTo>
                    <a:lnTo>
                      <a:pt x="110" y="219"/>
                    </a:lnTo>
                    <a:lnTo>
                      <a:pt x="122" y="146"/>
                    </a:lnTo>
                    <a:lnTo>
                      <a:pt x="110" y="73"/>
                    </a:lnTo>
                    <a:lnTo>
                      <a:pt x="49" y="0"/>
                    </a:lnTo>
                    <a:lnTo>
                      <a:pt x="122" y="0"/>
                    </a:lnTo>
                    <a:lnTo>
                      <a:pt x="158" y="73"/>
                    </a:lnTo>
                    <a:lnTo>
                      <a:pt x="73" y="85"/>
                    </a:lnTo>
                    <a:lnTo>
                      <a:pt x="158" y="61"/>
                    </a:lnTo>
                    <a:lnTo>
                      <a:pt x="110" y="134"/>
                    </a:lnTo>
                    <a:lnTo>
                      <a:pt x="122" y="61"/>
                    </a:lnTo>
                    <a:lnTo>
                      <a:pt x="122" y="61"/>
                    </a:lnTo>
                    <a:lnTo>
                      <a:pt x="122" y="61"/>
                    </a:lnTo>
                  </a:path>
                </a:pathLst>
              </a:custGeom>
              <a:noFill/>
              <a:ln w="381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578480" y="2494080"/>
                <a:ext cx="250920" cy="1236600"/>
              </a:xfrm>
              <a:custGeom>
                <a:avLst/>
                <a:gdLst/>
                <a:ahLst/>
                <a:rect l="l" t="t" r="r" b="b"/>
                <a:pathLst>
                  <a:path w="158" h="779">
                    <a:moveTo>
                      <a:pt x="97" y="718"/>
                    </a:moveTo>
                    <a:lnTo>
                      <a:pt x="48" y="645"/>
                    </a:lnTo>
                    <a:lnTo>
                      <a:pt x="121" y="645"/>
                    </a:lnTo>
                    <a:lnTo>
                      <a:pt x="48" y="621"/>
                    </a:lnTo>
                    <a:lnTo>
                      <a:pt x="36" y="548"/>
                    </a:lnTo>
                    <a:lnTo>
                      <a:pt x="97" y="475"/>
                    </a:lnTo>
                    <a:lnTo>
                      <a:pt x="109" y="548"/>
                    </a:lnTo>
                    <a:lnTo>
                      <a:pt x="158" y="621"/>
                    </a:lnTo>
                    <a:lnTo>
                      <a:pt x="158" y="694"/>
                    </a:lnTo>
                    <a:lnTo>
                      <a:pt x="133" y="779"/>
                    </a:lnTo>
                    <a:lnTo>
                      <a:pt x="60" y="742"/>
                    </a:lnTo>
                    <a:lnTo>
                      <a:pt x="0" y="669"/>
                    </a:lnTo>
                    <a:lnTo>
                      <a:pt x="36" y="596"/>
                    </a:lnTo>
                    <a:lnTo>
                      <a:pt x="48" y="523"/>
                    </a:lnTo>
                    <a:lnTo>
                      <a:pt x="72" y="450"/>
                    </a:lnTo>
                    <a:lnTo>
                      <a:pt x="109" y="377"/>
                    </a:lnTo>
                    <a:lnTo>
                      <a:pt x="109" y="292"/>
                    </a:lnTo>
                    <a:lnTo>
                      <a:pt x="109" y="219"/>
                    </a:lnTo>
                    <a:lnTo>
                      <a:pt x="121" y="146"/>
                    </a:lnTo>
                    <a:lnTo>
                      <a:pt x="109" y="73"/>
                    </a:lnTo>
                    <a:lnTo>
                      <a:pt x="48" y="0"/>
                    </a:lnTo>
                    <a:lnTo>
                      <a:pt x="121" y="0"/>
                    </a:lnTo>
                    <a:lnTo>
                      <a:pt x="158" y="73"/>
                    </a:lnTo>
                    <a:lnTo>
                      <a:pt x="72" y="85"/>
                    </a:lnTo>
                    <a:lnTo>
                      <a:pt x="158" y="61"/>
                    </a:lnTo>
                    <a:lnTo>
                      <a:pt x="109" y="134"/>
                    </a:lnTo>
                    <a:lnTo>
                      <a:pt x="121" y="61"/>
                    </a:lnTo>
                  </a:path>
                </a:pathLst>
              </a:custGeom>
              <a:noFill/>
              <a:ln w="381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732560" y="3691080"/>
                <a:ext cx="153720" cy="831960"/>
              </a:xfrm>
              <a:custGeom>
                <a:avLst/>
                <a:gdLst/>
                <a:ahLst/>
                <a:rect l="l" t="t" r="r" b="b"/>
                <a:pathLst>
                  <a:path w="97" h="524">
                    <a:moveTo>
                      <a:pt x="73" y="378"/>
                    </a:moveTo>
                    <a:lnTo>
                      <a:pt x="85" y="292"/>
                    </a:lnTo>
                    <a:lnTo>
                      <a:pt x="24" y="219"/>
                    </a:lnTo>
                    <a:lnTo>
                      <a:pt x="0" y="146"/>
                    </a:lnTo>
                    <a:lnTo>
                      <a:pt x="12" y="73"/>
                    </a:lnTo>
                    <a:lnTo>
                      <a:pt x="12" y="0"/>
                    </a:lnTo>
                    <a:lnTo>
                      <a:pt x="24" y="73"/>
                    </a:lnTo>
                    <a:lnTo>
                      <a:pt x="0" y="146"/>
                    </a:lnTo>
                    <a:lnTo>
                      <a:pt x="24" y="219"/>
                    </a:lnTo>
                    <a:lnTo>
                      <a:pt x="36" y="292"/>
                    </a:lnTo>
                    <a:lnTo>
                      <a:pt x="24" y="378"/>
                    </a:lnTo>
                    <a:lnTo>
                      <a:pt x="0" y="451"/>
                    </a:lnTo>
                    <a:lnTo>
                      <a:pt x="36" y="524"/>
                    </a:lnTo>
                    <a:lnTo>
                      <a:pt x="97" y="451"/>
                    </a:lnTo>
                    <a:lnTo>
                      <a:pt x="97" y="390"/>
                    </a:lnTo>
                    <a:lnTo>
                      <a:pt x="97" y="390"/>
                    </a:lnTo>
                  </a:path>
                </a:pathLst>
              </a:custGeom>
              <a:noFill/>
              <a:ln w="381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751280" y="3711600"/>
                <a:ext cx="173160" cy="830520"/>
              </a:xfrm>
              <a:custGeom>
                <a:avLst/>
                <a:gdLst/>
                <a:ahLst/>
                <a:rect l="l" t="t" r="r" b="b"/>
                <a:pathLst>
                  <a:path w="109" h="523">
                    <a:moveTo>
                      <a:pt x="73" y="377"/>
                    </a:moveTo>
                    <a:lnTo>
                      <a:pt x="97" y="292"/>
                    </a:lnTo>
                    <a:lnTo>
                      <a:pt x="36" y="219"/>
                    </a:lnTo>
                    <a:lnTo>
                      <a:pt x="0" y="146"/>
                    </a:lnTo>
                    <a:lnTo>
                      <a:pt x="12" y="73"/>
                    </a:lnTo>
                    <a:lnTo>
                      <a:pt x="12" y="0"/>
                    </a:lnTo>
                    <a:lnTo>
                      <a:pt x="36" y="73"/>
                    </a:lnTo>
                    <a:lnTo>
                      <a:pt x="0" y="146"/>
                    </a:lnTo>
                    <a:lnTo>
                      <a:pt x="36" y="219"/>
                    </a:lnTo>
                    <a:lnTo>
                      <a:pt x="49" y="292"/>
                    </a:lnTo>
                    <a:lnTo>
                      <a:pt x="36" y="377"/>
                    </a:lnTo>
                    <a:lnTo>
                      <a:pt x="0" y="450"/>
                    </a:lnTo>
                    <a:lnTo>
                      <a:pt x="49" y="523"/>
                    </a:lnTo>
                    <a:lnTo>
                      <a:pt x="109" y="450"/>
                    </a:lnTo>
                    <a:lnTo>
                      <a:pt x="109" y="389"/>
                    </a:lnTo>
                  </a:path>
                </a:pathLst>
              </a:custGeom>
              <a:noFill/>
              <a:ln w="381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 name=""/>
              <p:cNvGrpSpPr/>
              <p:nvPr/>
            </p:nvGrpSpPr>
            <p:grpSpPr>
              <a:xfrm>
                <a:off x="1641600" y="408240"/>
                <a:ext cx="3147840" cy="5967360"/>
                <a:chOff x="1641600" y="408240"/>
                <a:chExt cx="3147840" cy="5967360"/>
              </a:xfrm>
            </p:grpSpPr>
            <p:sp>
              <p:nvSpPr>
                <p:cNvPr id="116" name=""/>
                <p:cNvSpPr/>
                <p:nvPr/>
              </p:nvSpPr>
              <p:spPr>
                <a:xfrm>
                  <a:off x="4422960" y="4291200"/>
                  <a:ext cx="347400" cy="714240"/>
                </a:xfrm>
                <a:custGeom>
                  <a:avLst/>
                  <a:gdLst/>
                  <a:ahLst/>
                  <a:rect l="l" t="t" r="r" b="b"/>
                  <a:pathLst>
                    <a:path w="219" h="450">
                      <a:moveTo>
                        <a:pt x="219" y="0"/>
                      </a:moveTo>
                      <a:lnTo>
                        <a:pt x="207" y="73"/>
                      </a:lnTo>
                      <a:lnTo>
                        <a:pt x="158" y="146"/>
                      </a:lnTo>
                      <a:lnTo>
                        <a:pt x="158" y="219"/>
                      </a:lnTo>
                      <a:lnTo>
                        <a:pt x="158" y="292"/>
                      </a:lnTo>
                      <a:lnTo>
                        <a:pt x="158" y="365"/>
                      </a:lnTo>
                      <a:lnTo>
                        <a:pt x="85" y="413"/>
                      </a:lnTo>
                      <a:lnTo>
                        <a:pt x="0" y="450"/>
                      </a:lnTo>
                      <a:lnTo>
                        <a:pt x="25" y="425"/>
                      </a:lnTo>
                      <a:lnTo>
                        <a:pt x="25" y="42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442040" y="4310280"/>
                  <a:ext cx="347400" cy="733320"/>
                </a:xfrm>
                <a:custGeom>
                  <a:avLst/>
                  <a:gdLst/>
                  <a:ahLst/>
                  <a:rect l="l" t="t" r="r" b="b"/>
                  <a:pathLst>
                    <a:path w="219" h="462">
                      <a:moveTo>
                        <a:pt x="219" y="0"/>
                      </a:moveTo>
                      <a:lnTo>
                        <a:pt x="207" y="73"/>
                      </a:lnTo>
                      <a:lnTo>
                        <a:pt x="158" y="146"/>
                      </a:lnTo>
                      <a:lnTo>
                        <a:pt x="158" y="219"/>
                      </a:lnTo>
                      <a:lnTo>
                        <a:pt x="158" y="292"/>
                      </a:lnTo>
                      <a:lnTo>
                        <a:pt x="158" y="377"/>
                      </a:lnTo>
                      <a:lnTo>
                        <a:pt x="73" y="413"/>
                      </a:lnTo>
                      <a:lnTo>
                        <a:pt x="0" y="462"/>
                      </a:lnTo>
                      <a:lnTo>
                        <a:pt x="13" y="42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1641600" y="408240"/>
                  <a:ext cx="3109680" cy="5967360"/>
                  <a:chOff x="1641600" y="408240"/>
                  <a:chExt cx="3109680" cy="5967360"/>
                </a:xfrm>
              </p:grpSpPr>
              <p:sp>
                <p:nvSpPr>
                  <p:cNvPr id="119" name=""/>
                  <p:cNvSpPr/>
                  <p:nvPr/>
                </p:nvSpPr>
                <p:spPr>
                  <a:xfrm>
                    <a:off x="2994120" y="3016440"/>
                    <a:ext cx="96840" cy="250560"/>
                  </a:xfrm>
                  <a:custGeom>
                    <a:avLst/>
                    <a:gdLst/>
                    <a:ahLst/>
                    <a:rect l="l" t="t" r="r" b="b"/>
                    <a:pathLst>
                      <a:path w="61" h="158">
                        <a:moveTo>
                          <a:pt x="61" y="0"/>
                        </a:moveTo>
                        <a:lnTo>
                          <a:pt x="49" y="73"/>
                        </a:lnTo>
                        <a:lnTo>
                          <a:pt x="12" y="146"/>
                        </a:lnTo>
                        <a:lnTo>
                          <a:pt x="0" y="158"/>
                        </a:lnTo>
                        <a:lnTo>
                          <a:pt x="0"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013200" y="3035520"/>
                    <a:ext cx="96840" cy="250560"/>
                  </a:xfrm>
                  <a:custGeom>
                    <a:avLst/>
                    <a:gdLst/>
                    <a:ahLst/>
                    <a:rect l="l" t="t" r="r" b="b"/>
                    <a:pathLst>
                      <a:path w="61" h="158">
                        <a:moveTo>
                          <a:pt x="61" y="0"/>
                        </a:moveTo>
                        <a:lnTo>
                          <a:pt x="49" y="73"/>
                        </a:lnTo>
                        <a:lnTo>
                          <a:pt x="12" y="146"/>
                        </a:lnTo>
                        <a:lnTo>
                          <a:pt x="0"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1641600" y="408240"/>
                    <a:ext cx="3109680" cy="5967360"/>
                    <a:chOff x="1641600" y="408240"/>
                    <a:chExt cx="3109680" cy="5967360"/>
                  </a:xfrm>
                </p:grpSpPr>
                <p:grpSp>
                  <p:nvGrpSpPr>
                    <p:cNvPr id="122" name=""/>
                    <p:cNvGrpSpPr/>
                    <p:nvPr/>
                  </p:nvGrpSpPr>
                  <p:grpSpPr>
                    <a:xfrm>
                      <a:off x="1641600" y="408240"/>
                      <a:ext cx="3109680" cy="5967360"/>
                      <a:chOff x="1641600" y="408240"/>
                      <a:chExt cx="3109680" cy="5967360"/>
                    </a:xfrm>
                  </p:grpSpPr>
                  <p:sp>
                    <p:nvSpPr>
                      <p:cNvPr id="123" name=""/>
                      <p:cNvSpPr/>
                      <p:nvPr/>
                    </p:nvSpPr>
                    <p:spPr>
                      <a:xfrm>
                        <a:off x="4462560" y="1587600"/>
                        <a:ext cx="76320" cy="270000"/>
                      </a:xfrm>
                      <a:custGeom>
                        <a:avLst/>
                        <a:gdLst/>
                        <a:ahLst/>
                        <a:rect l="l" t="t" r="r" b="b"/>
                        <a:pathLst>
                          <a:path w="48" h="170">
                            <a:moveTo>
                              <a:pt x="36" y="0"/>
                            </a:moveTo>
                            <a:lnTo>
                              <a:pt x="48" y="97"/>
                            </a:lnTo>
                            <a:lnTo>
                              <a:pt x="0" y="170"/>
                            </a:lnTo>
                            <a:lnTo>
                              <a:pt x="36"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481640" y="1606680"/>
                        <a:ext cx="75960" cy="250920"/>
                      </a:xfrm>
                      <a:custGeom>
                        <a:avLst/>
                        <a:gdLst/>
                        <a:ahLst/>
                        <a:rect l="l" t="t" r="r" b="b"/>
                        <a:pathLst>
                          <a:path w="48" h="158">
                            <a:moveTo>
                              <a:pt x="36" y="0"/>
                            </a:moveTo>
                            <a:lnTo>
                              <a:pt x="48" y="85"/>
                            </a:lnTo>
                            <a:lnTo>
                              <a:pt x="0" y="158"/>
                            </a:lnTo>
                            <a:lnTo>
                              <a:pt x="36" y="1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5" name=""/>
                      <p:cNvGrpSpPr/>
                      <p:nvPr/>
                    </p:nvGrpSpPr>
                    <p:grpSpPr>
                      <a:xfrm>
                        <a:off x="1641600" y="408240"/>
                        <a:ext cx="3109680" cy="5967360"/>
                        <a:chOff x="1641600" y="408240"/>
                        <a:chExt cx="3109680" cy="5967360"/>
                      </a:xfrm>
                    </p:grpSpPr>
                    <p:sp>
                      <p:nvSpPr>
                        <p:cNvPr id="126" name=""/>
                        <p:cNvSpPr/>
                        <p:nvPr/>
                      </p:nvSpPr>
                      <p:spPr>
                        <a:xfrm>
                          <a:off x="2183040" y="4849920"/>
                          <a:ext cx="2549520" cy="1506600"/>
                        </a:xfrm>
                        <a:custGeom>
                          <a:avLst/>
                          <a:gdLst/>
                          <a:ahLst/>
                          <a:rect l="l" t="t" r="r" b="b"/>
                          <a:pathLst>
                            <a:path w="1606" h="949">
                              <a:moveTo>
                                <a:pt x="1545" y="73"/>
                              </a:moveTo>
                              <a:lnTo>
                                <a:pt x="1569" y="146"/>
                              </a:lnTo>
                              <a:lnTo>
                                <a:pt x="1594" y="231"/>
                              </a:lnTo>
                              <a:lnTo>
                                <a:pt x="1569" y="317"/>
                              </a:lnTo>
                              <a:lnTo>
                                <a:pt x="1569" y="390"/>
                              </a:lnTo>
                              <a:lnTo>
                                <a:pt x="1606" y="463"/>
                              </a:lnTo>
                              <a:lnTo>
                                <a:pt x="1606" y="536"/>
                              </a:lnTo>
                              <a:lnTo>
                                <a:pt x="1606" y="609"/>
                              </a:lnTo>
                              <a:lnTo>
                                <a:pt x="1606" y="682"/>
                              </a:lnTo>
                              <a:lnTo>
                                <a:pt x="1606" y="767"/>
                              </a:lnTo>
                              <a:lnTo>
                                <a:pt x="1569" y="852"/>
                              </a:lnTo>
                              <a:lnTo>
                                <a:pt x="1509" y="925"/>
                              </a:lnTo>
                              <a:lnTo>
                                <a:pt x="1387" y="949"/>
                              </a:lnTo>
                              <a:lnTo>
                                <a:pt x="1314" y="949"/>
                              </a:lnTo>
                              <a:lnTo>
                                <a:pt x="1217" y="949"/>
                              </a:lnTo>
                              <a:lnTo>
                                <a:pt x="1144" y="937"/>
                              </a:lnTo>
                              <a:lnTo>
                                <a:pt x="1046" y="925"/>
                              </a:lnTo>
                              <a:lnTo>
                                <a:pt x="961" y="901"/>
                              </a:lnTo>
                              <a:lnTo>
                                <a:pt x="864" y="852"/>
                              </a:lnTo>
                              <a:lnTo>
                                <a:pt x="766" y="767"/>
                              </a:lnTo>
                              <a:lnTo>
                                <a:pt x="693" y="706"/>
                              </a:lnTo>
                              <a:lnTo>
                                <a:pt x="620" y="730"/>
                              </a:lnTo>
                              <a:lnTo>
                                <a:pt x="523" y="718"/>
                              </a:lnTo>
                              <a:lnTo>
                                <a:pt x="426" y="682"/>
                              </a:lnTo>
                              <a:lnTo>
                                <a:pt x="365" y="609"/>
                              </a:lnTo>
                              <a:lnTo>
                                <a:pt x="341" y="536"/>
                              </a:lnTo>
                              <a:lnTo>
                                <a:pt x="304" y="463"/>
                              </a:lnTo>
                              <a:lnTo>
                                <a:pt x="243" y="390"/>
                              </a:lnTo>
                              <a:lnTo>
                                <a:pt x="158" y="329"/>
                              </a:lnTo>
                              <a:lnTo>
                                <a:pt x="73" y="244"/>
                              </a:lnTo>
                              <a:lnTo>
                                <a:pt x="61" y="171"/>
                              </a:lnTo>
                              <a:lnTo>
                                <a:pt x="12" y="98"/>
                              </a:lnTo>
                              <a:lnTo>
                                <a:pt x="0" y="13"/>
                              </a:lnTo>
                              <a:lnTo>
                                <a:pt x="0" y="0"/>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201760" y="4870440"/>
                          <a:ext cx="2549520" cy="1505160"/>
                        </a:xfrm>
                        <a:custGeom>
                          <a:avLst/>
                          <a:gdLst/>
                          <a:ahLst/>
                          <a:rect l="l" t="t" r="r" b="b"/>
                          <a:pathLst>
                            <a:path w="1606" h="948">
                              <a:moveTo>
                                <a:pt x="1545" y="72"/>
                              </a:moveTo>
                              <a:lnTo>
                                <a:pt x="1582" y="145"/>
                              </a:lnTo>
                              <a:lnTo>
                                <a:pt x="1594" y="218"/>
                              </a:lnTo>
                              <a:lnTo>
                                <a:pt x="1582" y="316"/>
                              </a:lnTo>
                              <a:lnTo>
                                <a:pt x="1582" y="389"/>
                              </a:lnTo>
                              <a:lnTo>
                                <a:pt x="1606" y="462"/>
                              </a:lnTo>
                              <a:lnTo>
                                <a:pt x="1606" y="535"/>
                              </a:lnTo>
                              <a:lnTo>
                                <a:pt x="1606" y="608"/>
                              </a:lnTo>
                              <a:lnTo>
                                <a:pt x="1606" y="681"/>
                              </a:lnTo>
                              <a:lnTo>
                                <a:pt x="1606" y="754"/>
                              </a:lnTo>
                              <a:lnTo>
                                <a:pt x="1582" y="851"/>
                              </a:lnTo>
                              <a:lnTo>
                                <a:pt x="1509" y="924"/>
                              </a:lnTo>
                              <a:lnTo>
                                <a:pt x="1387" y="948"/>
                              </a:lnTo>
                              <a:lnTo>
                                <a:pt x="1314" y="948"/>
                              </a:lnTo>
                              <a:lnTo>
                                <a:pt x="1217" y="948"/>
                              </a:lnTo>
                              <a:lnTo>
                                <a:pt x="1144" y="936"/>
                              </a:lnTo>
                              <a:lnTo>
                                <a:pt x="1046" y="924"/>
                              </a:lnTo>
                              <a:lnTo>
                                <a:pt x="961" y="888"/>
                              </a:lnTo>
                              <a:lnTo>
                                <a:pt x="864" y="851"/>
                              </a:lnTo>
                              <a:lnTo>
                                <a:pt x="767" y="754"/>
                              </a:lnTo>
                              <a:lnTo>
                                <a:pt x="694" y="693"/>
                              </a:lnTo>
                              <a:lnTo>
                                <a:pt x="621" y="729"/>
                              </a:lnTo>
                              <a:lnTo>
                                <a:pt x="523" y="717"/>
                              </a:lnTo>
                              <a:lnTo>
                                <a:pt x="438" y="681"/>
                              </a:lnTo>
                              <a:lnTo>
                                <a:pt x="365" y="608"/>
                              </a:lnTo>
                              <a:lnTo>
                                <a:pt x="341" y="535"/>
                              </a:lnTo>
                              <a:lnTo>
                                <a:pt x="304" y="462"/>
                              </a:lnTo>
                              <a:lnTo>
                                <a:pt x="243" y="389"/>
                              </a:lnTo>
                              <a:lnTo>
                                <a:pt x="158" y="328"/>
                              </a:lnTo>
                              <a:lnTo>
                                <a:pt x="73" y="243"/>
                              </a:lnTo>
                              <a:lnTo>
                                <a:pt x="61" y="158"/>
                              </a:lnTo>
                              <a:lnTo>
                                <a:pt x="12" y="85"/>
                              </a:lnTo>
                              <a:lnTo>
                                <a:pt x="0" y="12"/>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757520" y="3711600"/>
                          <a:ext cx="579240" cy="906480"/>
                        </a:xfrm>
                        <a:custGeom>
                          <a:avLst/>
                          <a:gdLst/>
                          <a:ahLst/>
                          <a:rect l="l" t="t" r="r" b="b"/>
                          <a:pathLst>
                            <a:path w="365" h="571">
                              <a:moveTo>
                                <a:pt x="365" y="547"/>
                              </a:moveTo>
                              <a:lnTo>
                                <a:pt x="280" y="571"/>
                              </a:lnTo>
                              <a:lnTo>
                                <a:pt x="171" y="511"/>
                              </a:lnTo>
                              <a:lnTo>
                                <a:pt x="146" y="425"/>
                              </a:lnTo>
                              <a:lnTo>
                                <a:pt x="98" y="352"/>
                              </a:lnTo>
                              <a:lnTo>
                                <a:pt x="61" y="267"/>
                              </a:lnTo>
                              <a:lnTo>
                                <a:pt x="49" y="194"/>
                              </a:lnTo>
                              <a:lnTo>
                                <a:pt x="25" y="121"/>
                              </a:lnTo>
                              <a:lnTo>
                                <a:pt x="0" y="48"/>
                              </a:lnTo>
                              <a:lnTo>
                                <a:pt x="0" y="0"/>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776600" y="3730680"/>
                          <a:ext cx="560160" cy="887400"/>
                        </a:xfrm>
                        <a:custGeom>
                          <a:avLst/>
                          <a:gdLst/>
                          <a:ahLst/>
                          <a:rect l="l" t="t" r="r" b="b"/>
                          <a:pathLst>
                            <a:path w="353" h="559">
                              <a:moveTo>
                                <a:pt x="353" y="535"/>
                              </a:moveTo>
                              <a:lnTo>
                                <a:pt x="280" y="559"/>
                              </a:lnTo>
                              <a:lnTo>
                                <a:pt x="171" y="511"/>
                              </a:lnTo>
                              <a:lnTo>
                                <a:pt x="134" y="413"/>
                              </a:lnTo>
                              <a:lnTo>
                                <a:pt x="98" y="340"/>
                              </a:lnTo>
                              <a:lnTo>
                                <a:pt x="61" y="267"/>
                              </a:lnTo>
                              <a:lnTo>
                                <a:pt x="49" y="194"/>
                              </a:lnTo>
                              <a:lnTo>
                                <a:pt x="13" y="121"/>
                              </a:lnTo>
                              <a:lnTo>
                                <a:pt x="0" y="48"/>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1641600" y="2359080"/>
                          <a:ext cx="1120680" cy="1139760"/>
                        </a:xfrm>
                        <a:custGeom>
                          <a:avLst/>
                          <a:gdLst/>
                          <a:ahLst/>
                          <a:rect l="l" t="t" r="r" b="b"/>
                          <a:pathLst>
                            <a:path w="706" h="718">
                              <a:moveTo>
                                <a:pt x="706" y="219"/>
                              </a:moveTo>
                              <a:lnTo>
                                <a:pt x="609" y="268"/>
                              </a:lnTo>
                              <a:lnTo>
                                <a:pt x="511" y="304"/>
                              </a:lnTo>
                              <a:lnTo>
                                <a:pt x="414" y="365"/>
                              </a:lnTo>
                              <a:lnTo>
                                <a:pt x="402" y="438"/>
                              </a:lnTo>
                              <a:lnTo>
                                <a:pt x="390" y="511"/>
                              </a:lnTo>
                              <a:lnTo>
                                <a:pt x="341" y="584"/>
                              </a:lnTo>
                              <a:lnTo>
                                <a:pt x="268" y="669"/>
                              </a:lnTo>
                              <a:lnTo>
                                <a:pt x="183" y="706"/>
                              </a:lnTo>
                              <a:lnTo>
                                <a:pt x="110" y="718"/>
                              </a:lnTo>
                              <a:lnTo>
                                <a:pt x="12" y="718"/>
                              </a:lnTo>
                              <a:lnTo>
                                <a:pt x="0" y="645"/>
                              </a:lnTo>
                              <a:lnTo>
                                <a:pt x="0" y="572"/>
                              </a:lnTo>
                              <a:lnTo>
                                <a:pt x="37" y="499"/>
                              </a:lnTo>
                              <a:lnTo>
                                <a:pt x="37" y="426"/>
                              </a:lnTo>
                              <a:lnTo>
                                <a:pt x="12" y="353"/>
                              </a:lnTo>
                              <a:lnTo>
                                <a:pt x="12" y="268"/>
                              </a:lnTo>
                              <a:lnTo>
                                <a:pt x="12" y="183"/>
                              </a:lnTo>
                              <a:lnTo>
                                <a:pt x="37" y="110"/>
                              </a:lnTo>
                              <a:lnTo>
                                <a:pt x="98" y="37"/>
                              </a:lnTo>
                              <a:lnTo>
                                <a:pt x="110" y="0"/>
                              </a:lnTo>
                              <a:lnTo>
                                <a:pt x="11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660680" y="2378160"/>
                          <a:ext cx="1120680" cy="1158840"/>
                        </a:xfrm>
                        <a:custGeom>
                          <a:avLst/>
                          <a:gdLst/>
                          <a:ahLst/>
                          <a:rect l="l" t="t" r="r" b="b"/>
                          <a:pathLst>
                            <a:path w="706" h="730">
                              <a:moveTo>
                                <a:pt x="706" y="219"/>
                              </a:moveTo>
                              <a:lnTo>
                                <a:pt x="609" y="268"/>
                              </a:lnTo>
                              <a:lnTo>
                                <a:pt x="511" y="317"/>
                              </a:lnTo>
                              <a:lnTo>
                                <a:pt x="414" y="377"/>
                              </a:lnTo>
                              <a:lnTo>
                                <a:pt x="402" y="450"/>
                              </a:lnTo>
                              <a:lnTo>
                                <a:pt x="390" y="523"/>
                              </a:lnTo>
                              <a:lnTo>
                                <a:pt x="341" y="596"/>
                              </a:lnTo>
                              <a:lnTo>
                                <a:pt x="268" y="669"/>
                              </a:lnTo>
                              <a:lnTo>
                                <a:pt x="183" y="718"/>
                              </a:lnTo>
                              <a:lnTo>
                                <a:pt x="110" y="730"/>
                              </a:lnTo>
                              <a:lnTo>
                                <a:pt x="13" y="730"/>
                              </a:lnTo>
                              <a:lnTo>
                                <a:pt x="0" y="657"/>
                              </a:lnTo>
                              <a:lnTo>
                                <a:pt x="0" y="584"/>
                              </a:lnTo>
                              <a:lnTo>
                                <a:pt x="37" y="511"/>
                              </a:lnTo>
                              <a:lnTo>
                                <a:pt x="37" y="426"/>
                              </a:lnTo>
                              <a:lnTo>
                                <a:pt x="13" y="353"/>
                              </a:lnTo>
                              <a:lnTo>
                                <a:pt x="13" y="268"/>
                              </a:lnTo>
                              <a:lnTo>
                                <a:pt x="13" y="195"/>
                              </a:lnTo>
                              <a:lnTo>
                                <a:pt x="37" y="122"/>
                              </a:lnTo>
                              <a:lnTo>
                                <a:pt x="98" y="49"/>
                              </a:lnTo>
                              <a:lnTo>
                                <a:pt x="11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816200" y="1413000"/>
                          <a:ext cx="655560" cy="888840"/>
                        </a:xfrm>
                        <a:custGeom>
                          <a:avLst/>
                          <a:gdLst/>
                          <a:ahLst/>
                          <a:rect l="l" t="t" r="r" b="b"/>
                          <a:pathLst>
                            <a:path w="413" h="560">
                              <a:moveTo>
                                <a:pt x="73" y="560"/>
                              </a:moveTo>
                              <a:lnTo>
                                <a:pt x="0" y="499"/>
                              </a:lnTo>
                              <a:lnTo>
                                <a:pt x="0" y="426"/>
                              </a:lnTo>
                              <a:lnTo>
                                <a:pt x="73" y="353"/>
                              </a:lnTo>
                              <a:lnTo>
                                <a:pt x="134" y="280"/>
                              </a:lnTo>
                              <a:lnTo>
                                <a:pt x="231" y="219"/>
                              </a:lnTo>
                              <a:lnTo>
                                <a:pt x="292" y="146"/>
                              </a:lnTo>
                              <a:lnTo>
                                <a:pt x="365" y="73"/>
                              </a:lnTo>
                              <a:lnTo>
                                <a:pt x="413" y="0"/>
                              </a:lnTo>
                              <a:lnTo>
                                <a:pt x="413" y="1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835280" y="1432080"/>
                          <a:ext cx="657000" cy="888840"/>
                        </a:xfrm>
                        <a:custGeom>
                          <a:avLst/>
                          <a:gdLst/>
                          <a:ahLst/>
                          <a:rect l="l" t="t" r="r" b="b"/>
                          <a:pathLst>
                            <a:path w="414" h="560">
                              <a:moveTo>
                                <a:pt x="73" y="560"/>
                              </a:moveTo>
                              <a:lnTo>
                                <a:pt x="0" y="511"/>
                              </a:lnTo>
                              <a:lnTo>
                                <a:pt x="0" y="426"/>
                              </a:lnTo>
                              <a:lnTo>
                                <a:pt x="73" y="353"/>
                              </a:lnTo>
                              <a:lnTo>
                                <a:pt x="134" y="280"/>
                              </a:lnTo>
                              <a:lnTo>
                                <a:pt x="231" y="219"/>
                              </a:lnTo>
                              <a:lnTo>
                                <a:pt x="292" y="146"/>
                              </a:lnTo>
                              <a:lnTo>
                                <a:pt x="365" y="73"/>
                              </a:lnTo>
                              <a:lnTo>
                                <a:pt x="414" y="0"/>
                              </a:lnTo>
                              <a:lnTo>
                                <a:pt x="414" y="1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568600" y="814320"/>
                          <a:ext cx="907920" cy="444600"/>
                        </a:xfrm>
                        <a:custGeom>
                          <a:avLst/>
                          <a:gdLst/>
                          <a:ahLst/>
                          <a:rect l="l" t="t" r="r" b="b"/>
                          <a:pathLst>
                            <a:path w="572" h="280">
                              <a:moveTo>
                                <a:pt x="0" y="280"/>
                              </a:moveTo>
                              <a:lnTo>
                                <a:pt x="37" y="195"/>
                              </a:lnTo>
                              <a:lnTo>
                                <a:pt x="146" y="182"/>
                              </a:lnTo>
                              <a:lnTo>
                                <a:pt x="207" y="109"/>
                              </a:lnTo>
                              <a:lnTo>
                                <a:pt x="317" y="61"/>
                              </a:lnTo>
                              <a:lnTo>
                                <a:pt x="402" y="49"/>
                              </a:lnTo>
                              <a:lnTo>
                                <a:pt x="487" y="24"/>
                              </a:lnTo>
                              <a:lnTo>
                                <a:pt x="572"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587680" y="833400"/>
                          <a:ext cx="907920" cy="444600"/>
                        </a:xfrm>
                        <a:custGeom>
                          <a:avLst/>
                          <a:gdLst/>
                          <a:ahLst/>
                          <a:rect l="l" t="t" r="r" b="b"/>
                          <a:pathLst>
                            <a:path w="572" h="280">
                              <a:moveTo>
                                <a:pt x="0" y="280"/>
                              </a:moveTo>
                              <a:lnTo>
                                <a:pt x="37" y="195"/>
                              </a:lnTo>
                              <a:lnTo>
                                <a:pt x="134" y="183"/>
                              </a:lnTo>
                              <a:lnTo>
                                <a:pt x="207" y="110"/>
                              </a:lnTo>
                              <a:lnTo>
                                <a:pt x="305" y="61"/>
                              </a:lnTo>
                              <a:lnTo>
                                <a:pt x="402" y="49"/>
                              </a:lnTo>
                              <a:lnTo>
                                <a:pt x="475" y="24"/>
                              </a:lnTo>
                              <a:lnTo>
                                <a:pt x="572"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379680" y="408240"/>
                          <a:ext cx="1140120" cy="599760"/>
                        </a:xfrm>
                        <a:custGeom>
                          <a:avLst/>
                          <a:gdLst/>
                          <a:ahLst/>
                          <a:rect l="l" t="t" r="r" b="b"/>
                          <a:pathLst>
                            <a:path w="718" h="378">
                              <a:moveTo>
                                <a:pt x="0" y="195"/>
                              </a:moveTo>
                              <a:lnTo>
                                <a:pt x="0" y="122"/>
                              </a:lnTo>
                              <a:lnTo>
                                <a:pt x="98" y="61"/>
                              </a:lnTo>
                              <a:lnTo>
                                <a:pt x="183" y="37"/>
                              </a:lnTo>
                              <a:lnTo>
                                <a:pt x="292" y="13"/>
                              </a:lnTo>
                              <a:lnTo>
                                <a:pt x="377" y="0"/>
                              </a:lnTo>
                              <a:lnTo>
                                <a:pt x="463" y="37"/>
                              </a:lnTo>
                              <a:lnTo>
                                <a:pt x="560" y="73"/>
                              </a:lnTo>
                              <a:lnTo>
                                <a:pt x="633" y="134"/>
                              </a:lnTo>
                              <a:lnTo>
                                <a:pt x="669" y="207"/>
                              </a:lnTo>
                              <a:lnTo>
                                <a:pt x="718" y="280"/>
                              </a:lnTo>
                              <a:lnTo>
                                <a:pt x="682" y="365"/>
                              </a:lnTo>
                              <a:lnTo>
                                <a:pt x="682" y="378"/>
                              </a:lnTo>
                              <a:lnTo>
                                <a:pt x="682" y="37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398760" y="428760"/>
                          <a:ext cx="1121040" cy="598320"/>
                        </a:xfrm>
                        <a:custGeom>
                          <a:avLst/>
                          <a:gdLst/>
                          <a:ahLst/>
                          <a:rect l="l" t="t" r="r" b="b"/>
                          <a:pathLst>
                            <a:path w="706" h="377">
                              <a:moveTo>
                                <a:pt x="0" y="194"/>
                              </a:moveTo>
                              <a:lnTo>
                                <a:pt x="0" y="121"/>
                              </a:lnTo>
                              <a:lnTo>
                                <a:pt x="98" y="60"/>
                              </a:lnTo>
                              <a:lnTo>
                                <a:pt x="183" y="24"/>
                              </a:lnTo>
                              <a:lnTo>
                                <a:pt x="292" y="12"/>
                              </a:lnTo>
                              <a:lnTo>
                                <a:pt x="365" y="0"/>
                              </a:lnTo>
                              <a:lnTo>
                                <a:pt x="463" y="24"/>
                              </a:lnTo>
                              <a:lnTo>
                                <a:pt x="560" y="73"/>
                              </a:lnTo>
                              <a:lnTo>
                                <a:pt x="633" y="133"/>
                              </a:lnTo>
                              <a:lnTo>
                                <a:pt x="670" y="206"/>
                              </a:lnTo>
                              <a:lnTo>
                                <a:pt x="706" y="279"/>
                              </a:lnTo>
                              <a:lnTo>
                                <a:pt x="682" y="352"/>
                              </a:lnTo>
                              <a:lnTo>
                                <a:pt x="682" y="377"/>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805200" y="717480"/>
                          <a:ext cx="444600" cy="174960"/>
                        </a:xfrm>
                        <a:custGeom>
                          <a:avLst/>
                          <a:gdLst/>
                          <a:ahLst/>
                          <a:rect l="l" t="t" r="r" b="b"/>
                          <a:pathLst>
                            <a:path w="280" h="110">
                              <a:moveTo>
                                <a:pt x="0" y="0"/>
                              </a:moveTo>
                              <a:lnTo>
                                <a:pt x="85" y="61"/>
                              </a:lnTo>
                              <a:lnTo>
                                <a:pt x="182" y="110"/>
                              </a:lnTo>
                              <a:lnTo>
                                <a:pt x="280" y="110"/>
                              </a:lnTo>
                              <a:lnTo>
                                <a:pt x="280" y="8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824280" y="736560"/>
                          <a:ext cx="444600" cy="174600"/>
                        </a:xfrm>
                        <a:custGeom>
                          <a:avLst/>
                          <a:gdLst/>
                          <a:ahLst/>
                          <a:rect l="l" t="t" r="r" b="b"/>
                          <a:pathLst>
                            <a:path w="280" h="110">
                              <a:moveTo>
                                <a:pt x="0" y="0"/>
                              </a:moveTo>
                              <a:lnTo>
                                <a:pt x="97" y="61"/>
                              </a:lnTo>
                              <a:lnTo>
                                <a:pt x="183" y="110"/>
                              </a:lnTo>
                              <a:lnTo>
                                <a:pt x="280" y="110"/>
                              </a:lnTo>
                              <a:lnTo>
                                <a:pt x="280" y="8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916360" y="1046160"/>
                          <a:ext cx="1622520" cy="520920"/>
                        </a:xfrm>
                        <a:custGeom>
                          <a:avLst/>
                          <a:gdLst/>
                          <a:ahLst/>
                          <a:rect l="l" t="t" r="r" b="b"/>
                          <a:pathLst>
                            <a:path w="1022" h="328">
                              <a:moveTo>
                                <a:pt x="0" y="268"/>
                              </a:moveTo>
                              <a:lnTo>
                                <a:pt x="73" y="255"/>
                              </a:lnTo>
                              <a:lnTo>
                                <a:pt x="171" y="207"/>
                              </a:lnTo>
                              <a:lnTo>
                                <a:pt x="268" y="182"/>
                              </a:lnTo>
                              <a:lnTo>
                                <a:pt x="353" y="134"/>
                              </a:lnTo>
                              <a:lnTo>
                                <a:pt x="450" y="73"/>
                              </a:lnTo>
                              <a:lnTo>
                                <a:pt x="536" y="61"/>
                              </a:lnTo>
                              <a:lnTo>
                                <a:pt x="633" y="12"/>
                              </a:lnTo>
                              <a:lnTo>
                                <a:pt x="730" y="0"/>
                              </a:lnTo>
                              <a:lnTo>
                                <a:pt x="803" y="0"/>
                              </a:lnTo>
                              <a:lnTo>
                                <a:pt x="901" y="36"/>
                              </a:lnTo>
                              <a:lnTo>
                                <a:pt x="974" y="73"/>
                              </a:lnTo>
                              <a:lnTo>
                                <a:pt x="1022" y="170"/>
                              </a:lnTo>
                              <a:lnTo>
                                <a:pt x="1022" y="243"/>
                              </a:lnTo>
                              <a:lnTo>
                                <a:pt x="1010" y="316"/>
                              </a:lnTo>
                              <a:lnTo>
                                <a:pt x="913" y="328"/>
                              </a:lnTo>
                              <a:lnTo>
                                <a:pt x="901" y="255"/>
                              </a:lnTo>
                              <a:lnTo>
                                <a:pt x="803" y="231"/>
                              </a:lnTo>
                              <a:lnTo>
                                <a:pt x="730" y="243"/>
                              </a:lnTo>
                              <a:lnTo>
                                <a:pt x="742" y="231"/>
                              </a:lnTo>
                              <a:lnTo>
                                <a:pt x="742" y="231"/>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935440" y="1065240"/>
                          <a:ext cx="1622160" cy="522360"/>
                        </a:xfrm>
                        <a:custGeom>
                          <a:avLst/>
                          <a:gdLst/>
                          <a:ahLst/>
                          <a:rect l="l" t="t" r="r" b="b"/>
                          <a:pathLst>
                            <a:path w="1022" h="329">
                              <a:moveTo>
                                <a:pt x="0" y="268"/>
                              </a:moveTo>
                              <a:lnTo>
                                <a:pt x="73" y="256"/>
                              </a:lnTo>
                              <a:lnTo>
                                <a:pt x="171" y="207"/>
                              </a:lnTo>
                              <a:lnTo>
                                <a:pt x="268" y="183"/>
                              </a:lnTo>
                              <a:lnTo>
                                <a:pt x="353" y="134"/>
                              </a:lnTo>
                              <a:lnTo>
                                <a:pt x="451" y="73"/>
                              </a:lnTo>
                              <a:lnTo>
                                <a:pt x="536" y="61"/>
                              </a:lnTo>
                              <a:lnTo>
                                <a:pt x="633" y="12"/>
                              </a:lnTo>
                              <a:lnTo>
                                <a:pt x="730" y="0"/>
                              </a:lnTo>
                              <a:lnTo>
                                <a:pt x="803" y="0"/>
                              </a:lnTo>
                              <a:lnTo>
                                <a:pt x="901" y="24"/>
                              </a:lnTo>
                              <a:lnTo>
                                <a:pt x="974" y="73"/>
                              </a:lnTo>
                              <a:lnTo>
                                <a:pt x="1022" y="158"/>
                              </a:lnTo>
                              <a:lnTo>
                                <a:pt x="1022" y="243"/>
                              </a:lnTo>
                              <a:lnTo>
                                <a:pt x="1010" y="316"/>
                              </a:lnTo>
                              <a:lnTo>
                                <a:pt x="913" y="329"/>
                              </a:lnTo>
                              <a:lnTo>
                                <a:pt x="901" y="256"/>
                              </a:lnTo>
                              <a:lnTo>
                                <a:pt x="803" y="219"/>
                              </a:lnTo>
                              <a:lnTo>
                                <a:pt x="730" y="243"/>
                              </a:lnTo>
                              <a:lnTo>
                                <a:pt x="743"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282840" y="1741680"/>
                          <a:ext cx="96840" cy="250560"/>
                        </a:xfrm>
                        <a:custGeom>
                          <a:avLst/>
                          <a:gdLst/>
                          <a:ahLst/>
                          <a:rect l="l" t="t" r="r" b="b"/>
                          <a:pathLst>
                            <a:path w="61" h="158">
                              <a:moveTo>
                                <a:pt x="61" y="0"/>
                              </a:moveTo>
                              <a:lnTo>
                                <a:pt x="49" y="73"/>
                              </a:lnTo>
                              <a:lnTo>
                                <a:pt x="13" y="146"/>
                              </a:lnTo>
                              <a:lnTo>
                                <a:pt x="0" y="158"/>
                              </a:lnTo>
                              <a:lnTo>
                                <a:pt x="0"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303720" y="1760760"/>
                          <a:ext cx="95040" cy="250560"/>
                        </a:xfrm>
                        <a:custGeom>
                          <a:avLst/>
                          <a:gdLst/>
                          <a:ahLst/>
                          <a:rect l="l" t="t" r="r" b="b"/>
                          <a:pathLst>
                            <a:path w="60" h="158">
                              <a:moveTo>
                                <a:pt x="60" y="0"/>
                              </a:moveTo>
                              <a:lnTo>
                                <a:pt x="48" y="73"/>
                              </a:lnTo>
                              <a:lnTo>
                                <a:pt x="12" y="146"/>
                              </a:lnTo>
                              <a:lnTo>
                                <a:pt x="0"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398760" y="1876680"/>
                          <a:ext cx="503280" cy="695160"/>
                        </a:xfrm>
                        <a:custGeom>
                          <a:avLst/>
                          <a:gdLst/>
                          <a:ahLst/>
                          <a:rect l="l" t="t" r="r" b="b"/>
                          <a:pathLst>
                            <a:path w="317" h="438">
                              <a:moveTo>
                                <a:pt x="317" y="0"/>
                              </a:moveTo>
                              <a:lnTo>
                                <a:pt x="232" y="73"/>
                              </a:lnTo>
                              <a:lnTo>
                                <a:pt x="219" y="170"/>
                              </a:lnTo>
                              <a:lnTo>
                                <a:pt x="219" y="243"/>
                              </a:lnTo>
                              <a:lnTo>
                                <a:pt x="146" y="316"/>
                              </a:lnTo>
                              <a:lnTo>
                                <a:pt x="49" y="341"/>
                              </a:lnTo>
                              <a:lnTo>
                                <a:pt x="0" y="414"/>
                              </a:lnTo>
                              <a:lnTo>
                                <a:pt x="0" y="438"/>
                              </a:lnTo>
                              <a:lnTo>
                                <a:pt x="0" y="43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419640" y="1895400"/>
                          <a:ext cx="482400" cy="676440"/>
                        </a:xfrm>
                        <a:custGeom>
                          <a:avLst/>
                          <a:gdLst/>
                          <a:ahLst/>
                          <a:rect l="l" t="t" r="r" b="b"/>
                          <a:pathLst>
                            <a:path w="304" h="426">
                              <a:moveTo>
                                <a:pt x="304" y="0"/>
                              </a:moveTo>
                              <a:lnTo>
                                <a:pt x="231" y="73"/>
                              </a:lnTo>
                              <a:lnTo>
                                <a:pt x="219" y="158"/>
                              </a:lnTo>
                              <a:lnTo>
                                <a:pt x="219" y="243"/>
                              </a:lnTo>
                              <a:lnTo>
                                <a:pt x="133" y="316"/>
                              </a:lnTo>
                              <a:lnTo>
                                <a:pt x="48" y="341"/>
                              </a:lnTo>
                              <a:lnTo>
                                <a:pt x="0" y="414"/>
                              </a:lnTo>
                              <a:lnTo>
                                <a:pt x="0" y="42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2935440" y="2108160"/>
                          <a:ext cx="368280" cy="270000"/>
                        </a:xfrm>
                        <a:custGeom>
                          <a:avLst/>
                          <a:gdLst/>
                          <a:ahLst/>
                          <a:rect l="l" t="t" r="r" b="b"/>
                          <a:pathLst>
                            <a:path w="232" h="170">
                              <a:moveTo>
                                <a:pt x="232" y="170"/>
                              </a:moveTo>
                              <a:lnTo>
                                <a:pt x="159" y="170"/>
                              </a:lnTo>
                              <a:lnTo>
                                <a:pt x="49" y="109"/>
                              </a:lnTo>
                              <a:lnTo>
                                <a:pt x="0" y="36"/>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955960" y="2127240"/>
                          <a:ext cx="366840" cy="250920"/>
                        </a:xfrm>
                        <a:custGeom>
                          <a:avLst/>
                          <a:gdLst/>
                          <a:ahLst/>
                          <a:rect l="l" t="t" r="r" b="b"/>
                          <a:pathLst>
                            <a:path w="231" h="158">
                              <a:moveTo>
                                <a:pt x="231" y="158"/>
                              </a:moveTo>
                              <a:lnTo>
                                <a:pt x="158" y="158"/>
                              </a:lnTo>
                              <a:lnTo>
                                <a:pt x="48" y="110"/>
                              </a:lnTo>
                              <a:lnTo>
                                <a:pt x="0" y="24"/>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183040" y="2417760"/>
                          <a:ext cx="444240" cy="95400"/>
                        </a:xfrm>
                        <a:custGeom>
                          <a:avLst/>
                          <a:gdLst/>
                          <a:ahLst/>
                          <a:rect l="l" t="t" r="r" b="b"/>
                          <a:pathLst>
                            <a:path w="280" h="60">
                              <a:moveTo>
                                <a:pt x="0" y="48"/>
                              </a:moveTo>
                              <a:lnTo>
                                <a:pt x="73" y="60"/>
                              </a:lnTo>
                              <a:lnTo>
                                <a:pt x="170" y="60"/>
                              </a:lnTo>
                              <a:lnTo>
                                <a:pt x="268" y="36"/>
                              </a:lnTo>
                              <a:lnTo>
                                <a:pt x="280" y="0"/>
                              </a:lnTo>
                              <a:lnTo>
                                <a:pt x="28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2201760" y="2436840"/>
                          <a:ext cx="444600" cy="96840"/>
                        </a:xfrm>
                        <a:custGeom>
                          <a:avLst/>
                          <a:gdLst/>
                          <a:ahLst/>
                          <a:rect l="l" t="t" r="r" b="b"/>
                          <a:pathLst>
                            <a:path w="280" h="61">
                              <a:moveTo>
                                <a:pt x="0" y="48"/>
                              </a:moveTo>
                              <a:lnTo>
                                <a:pt x="73" y="61"/>
                              </a:lnTo>
                              <a:lnTo>
                                <a:pt x="170" y="61"/>
                              </a:lnTo>
                              <a:lnTo>
                                <a:pt x="268" y="24"/>
                              </a:lnTo>
                              <a:lnTo>
                                <a:pt x="28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568600" y="2108160"/>
                          <a:ext cx="444600" cy="193680"/>
                        </a:xfrm>
                        <a:custGeom>
                          <a:avLst/>
                          <a:gdLst/>
                          <a:ahLst/>
                          <a:rect l="l" t="t" r="r" b="b"/>
                          <a:pathLst>
                            <a:path w="280" h="122">
                              <a:moveTo>
                                <a:pt x="0" y="122"/>
                              </a:moveTo>
                              <a:lnTo>
                                <a:pt x="98" y="73"/>
                              </a:lnTo>
                              <a:lnTo>
                                <a:pt x="183" y="49"/>
                              </a:lnTo>
                              <a:lnTo>
                                <a:pt x="280" y="0"/>
                              </a:lnTo>
                              <a:lnTo>
                                <a:pt x="268" y="24"/>
                              </a:lnTo>
                              <a:lnTo>
                                <a:pt x="268" y="2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2587680" y="2127240"/>
                          <a:ext cx="444600" cy="193680"/>
                        </a:xfrm>
                        <a:custGeom>
                          <a:avLst/>
                          <a:gdLst/>
                          <a:ahLst/>
                          <a:rect l="l" t="t" r="r" b="b"/>
                          <a:pathLst>
                            <a:path w="280" h="122">
                              <a:moveTo>
                                <a:pt x="0" y="122"/>
                              </a:moveTo>
                              <a:lnTo>
                                <a:pt x="98" y="73"/>
                              </a:lnTo>
                              <a:lnTo>
                                <a:pt x="183" y="49"/>
                              </a:lnTo>
                              <a:lnTo>
                                <a:pt x="280" y="0"/>
                              </a:lnTo>
                              <a:lnTo>
                                <a:pt x="268" y="1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805200" y="2475000"/>
                          <a:ext cx="405000" cy="154080"/>
                        </a:xfrm>
                        <a:custGeom>
                          <a:avLst/>
                          <a:gdLst/>
                          <a:ahLst/>
                          <a:rect l="l" t="t" r="r" b="b"/>
                          <a:pathLst>
                            <a:path w="255" h="97">
                              <a:moveTo>
                                <a:pt x="0" y="97"/>
                              </a:moveTo>
                              <a:lnTo>
                                <a:pt x="85" y="85"/>
                              </a:lnTo>
                              <a:lnTo>
                                <a:pt x="182" y="85"/>
                              </a:lnTo>
                              <a:lnTo>
                                <a:pt x="255" y="12"/>
                              </a:lnTo>
                              <a:lnTo>
                                <a:pt x="255" y="0"/>
                              </a:lnTo>
                              <a:lnTo>
                                <a:pt x="255"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824280" y="2494080"/>
                          <a:ext cx="425520" cy="174600"/>
                        </a:xfrm>
                        <a:custGeom>
                          <a:avLst/>
                          <a:gdLst/>
                          <a:ahLst/>
                          <a:rect l="l" t="t" r="r" b="b"/>
                          <a:pathLst>
                            <a:path w="268" h="110">
                              <a:moveTo>
                                <a:pt x="0" y="110"/>
                              </a:moveTo>
                              <a:lnTo>
                                <a:pt x="97" y="85"/>
                              </a:lnTo>
                              <a:lnTo>
                                <a:pt x="183" y="85"/>
                              </a:lnTo>
                              <a:lnTo>
                                <a:pt x="268" y="12"/>
                              </a:lnTo>
                              <a:lnTo>
                                <a:pt x="268"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3902040" y="2784600"/>
                          <a:ext cx="250920" cy="212760"/>
                        </a:xfrm>
                        <a:custGeom>
                          <a:avLst/>
                          <a:gdLst/>
                          <a:ahLst/>
                          <a:rect l="l" t="t" r="r" b="b"/>
                          <a:pathLst>
                            <a:path w="158" h="134">
                              <a:moveTo>
                                <a:pt x="0" y="0"/>
                              </a:moveTo>
                              <a:lnTo>
                                <a:pt x="61" y="85"/>
                              </a:lnTo>
                              <a:lnTo>
                                <a:pt x="134" y="109"/>
                              </a:lnTo>
                              <a:lnTo>
                                <a:pt x="158" y="13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3921120" y="2803680"/>
                          <a:ext cx="250920" cy="212760"/>
                        </a:xfrm>
                        <a:custGeom>
                          <a:avLst/>
                          <a:gdLst/>
                          <a:ahLst/>
                          <a:rect l="l" t="t" r="r" b="b"/>
                          <a:pathLst>
                            <a:path w="158" h="134">
                              <a:moveTo>
                                <a:pt x="0" y="0"/>
                              </a:moveTo>
                              <a:lnTo>
                                <a:pt x="61" y="85"/>
                              </a:lnTo>
                              <a:lnTo>
                                <a:pt x="134" y="122"/>
                              </a:lnTo>
                              <a:lnTo>
                                <a:pt x="158" y="13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3071880" y="2997360"/>
                          <a:ext cx="598320" cy="2124000"/>
                        </a:xfrm>
                        <a:custGeom>
                          <a:avLst/>
                          <a:gdLst/>
                          <a:ahLst/>
                          <a:rect l="l" t="t" r="r" b="b"/>
                          <a:pathLst>
                            <a:path w="377" h="1338">
                              <a:moveTo>
                                <a:pt x="0" y="0"/>
                              </a:moveTo>
                              <a:lnTo>
                                <a:pt x="60" y="73"/>
                              </a:lnTo>
                              <a:lnTo>
                                <a:pt x="121" y="146"/>
                              </a:lnTo>
                              <a:lnTo>
                                <a:pt x="182" y="219"/>
                              </a:lnTo>
                              <a:lnTo>
                                <a:pt x="243" y="291"/>
                              </a:lnTo>
                              <a:lnTo>
                                <a:pt x="243" y="364"/>
                              </a:lnTo>
                              <a:lnTo>
                                <a:pt x="206" y="450"/>
                              </a:lnTo>
                              <a:lnTo>
                                <a:pt x="170" y="535"/>
                              </a:lnTo>
                              <a:lnTo>
                                <a:pt x="146" y="608"/>
                              </a:lnTo>
                              <a:lnTo>
                                <a:pt x="146" y="681"/>
                              </a:lnTo>
                              <a:lnTo>
                                <a:pt x="243" y="754"/>
                              </a:lnTo>
                              <a:lnTo>
                                <a:pt x="340" y="815"/>
                              </a:lnTo>
                              <a:lnTo>
                                <a:pt x="377" y="888"/>
                              </a:lnTo>
                              <a:lnTo>
                                <a:pt x="352" y="973"/>
                              </a:lnTo>
                              <a:lnTo>
                                <a:pt x="304" y="1046"/>
                              </a:lnTo>
                              <a:lnTo>
                                <a:pt x="206" y="1131"/>
                              </a:lnTo>
                              <a:lnTo>
                                <a:pt x="121" y="1180"/>
                              </a:lnTo>
                              <a:lnTo>
                                <a:pt x="85" y="1265"/>
                              </a:lnTo>
                              <a:lnTo>
                                <a:pt x="85" y="1338"/>
                              </a:lnTo>
                              <a:lnTo>
                                <a:pt x="85" y="1338"/>
                              </a:lnTo>
                              <a:lnTo>
                                <a:pt x="85" y="133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090960" y="3016440"/>
                          <a:ext cx="617400" cy="2124000"/>
                        </a:xfrm>
                        <a:custGeom>
                          <a:avLst/>
                          <a:gdLst/>
                          <a:ahLst/>
                          <a:rect l="l" t="t" r="r" b="b"/>
                          <a:pathLst>
                            <a:path w="389" h="1338">
                              <a:moveTo>
                                <a:pt x="0" y="0"/>
                              </a:moveTo>
                              <a:lnTo>
                                <a:pt x="61" y="73"/>
                              </a:lnTo>
                              <a:lnTo>
                                <a:pt x="121" y="146"/>
                              </a:lnTo>
                              <a:lnTo>
                                <a:pt x="182" y="219"/>
                              </a:lnTo>
                              <a:lnTo>
                                <a:pt x="243" y="292"/>
                              </a:lnTo>
                              <a:lnTo>
                                <a:pt x="243" y="377"/>
                              </a:lnTo>
                              <a:lnTo>
                                <a:pt x="219" y="462"/>
                              </a:lnTo>
                              <a:lnTo>
                                <a:pt x="170" y="535"/>
                              </a:lnTo>
                              <a:lnTo>
                                <a:pt x="158" y="608"/>
                              </a:lnTo>
                              <a:lnTo>
                                <a:pt x="158" y="681"/>
                              </a:lnTo>
                              <a:lnTo>
                                <a:pt x="243" y="754"/>
                              </a:lnTo>
                              <a:lnTo>
                                <a:pt x="340" y="815"/>
                              </a:lnTo>
                              <a:lnTo>
                                <a:pt x="389" y="888"/>
                              </a:lnTo>
                              <a:lnTo>
                                <a:pt x="353" y="985"/>
                              </a:lnTo>
                              <a:lnTo>
                                <a:pt x="304" y="1058"/>
                              </a:lnTo>
                              <a:lnTo>
                                <a:pt x="219" y="1131"/>
                              </a:lnTo>
                              <a:lnTo>
                                <a:pt x="121" y="1192"/>
                              </a:lnTo>
                              <a:lnTo>
                                <a:pt x="97" y="1265"/>
                              </a:lnTo>
                              <a:lnTo>
                                <a:pt x="97" y="133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3767040" y="3324240"/>
                          <a:ext cx="520920" cy="1641600"/>
                        </a:xfrm>
                        <a:custGeom>
                          <a:avLst/>
                          <a:gdLst/>
                          <a:ahLst/>
                          <a:rect l="l" t="t" r="r" b="b"/>
                          <a:pathLst>
                            <a:path w="328" h="1034">
                              <a:moveTo>
                                <a:pt x="24" y="0"/>
                              </a:moveTo>
                              <a:lnTo>
                                <a:pt x="0" y="73"/>
                              </a:lnTo>
                              <a:lnTo>
                                <a:pt x="48" y="146"/>
                              </a:lnTo>
                              <a:lnTo>
                                <a:pt x="133" y="195"/>
                              </a:lnTo>
                              <a:lnTo>
                                <a:pt x="48" y="244"/>
                              </a:lnTo>
                              <a:lnTo>
                                <a:pt x="48" y="329"/>
                              </a:lnTo>
                              <a:lnTo>
                                <a:pt x="109" y="402"/>
                              </a:lnTo>
                              <a:lnTo>
                                <a:pt x="206" y="414"/>
                              </a:lnTo>
                              <a:lnTo>
                                <a:pt x="304" y="463"/>
                              </a:lnTo>
                              <a:lnTo>
                                <a:pt x="304" y="536"/>
                              </a:lnTo>
                              <a:lnTo>
                                <a:pt x="328" y="609"/>
                              </a:lnTo>
                              <a:lnTo>
                                <a:pt x="304" y="682"/>
                              </a:lnTo>
                              <a:lnTo>
                                <a:pt x="267" y="767"/>
                              </a:lnTo>
                              <a:lnTo>
                                <a:pt x="219" y="840"/>
                              </a:lnTo>
                              <a:lnTo>
                                <a:pt x="206" y="925"/>
                              </a:lnTo>
                              <a:lnTo>
                                <a:pt x="146" y="998"/>
                              </a:lnTo>
                              <a:lnTo>
                                <a:pt x="97" y="1034"/>
                              </a:lnTo>
                              <a:lnTo>
                                <a:pt x="97" y="103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786120" y="3345120"/>
                          <a:ext cx="520920" cy="1660320"/>
                        </a:xfrm>
                        <a:custGeom>
                          <a:avLst/>
                          <a:gdLst/>
                          <a:ahLst/>
                          <a:rect l="l" t="t" r="r" b="b"/>
                          <a:pathLst>
                            <a:path w="328" h="1046">
                              <a:moveTo>
                                <a:pt x="12" y="0"/>
                              </a:moveTo>
                              <a:lnTo>
                                <a:pt x="0" y="72"/>
                              </a:lnTo>
                              <a:lnTo>
                                <a:pt x="48" y="145"/>
                              </a:lnTo>
                              <a:lnTo>
                                <a:pt x="121" y="194"/>
                              </a:lnTo>
                              <a:lnTo>
                                <a:pt x="48" y="255"/>
                              </a:lnTo>
                              <a:lnTo>
                                <a:pt x="48" y="328"/>
                              </a:lnTo>
                              <a:lnTo>
                                <a:pt x="109" y="401"/>
                              </a:lnTo>
                              <a:lnTo>
                                <a:pt x="207" y="413"/>
                              </a:lnTo>
                              <a:lnTo>
                                <a:pt x="292" y="462"/>
                              </a:lnTo>
                              <a:lnTo>
                                <a:pt x="292" y="535"/>
                              </a:lnTo>
                              <a:lnTo>
                                <a:pt x="328" y="608"/>
                              </a:lnTo>
                              <a:lnTo>
                                <a:pt x="292" y="681"/>
                              </a:lnTo>
                              <a:lnTo>
                                <a:pt x="267" y="778"/>
                              </a:lnTo>
                              <a:lnTo>
                                <a:pt x="219" y="851"/>
                              </a:lnTo>
                              <a:lnTo>
                                <a:pt x="207" y="924"/>
                              </a:lnTo>
                              <a:lnTo>
                                <a:pt x="134" y="997"/>
                              </a:lnTo>
                              <a:lnTo>
                                <a:pt x="97" y="10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3651480" y="5062680"/>
                          <a:ext cx="463320" cy="617400"/>
                        </a:xfrm>
                        <a:custGeom>
                          <a:avLst/>
                          <a:gdLst/>
                          <a:ahLst/>
                          <a:rect l="l" t="t" r="r" b="b"/>
                          <a:pathLst>
                            <a:path w="292" h="389">
                              <a:moveTo>
                                <a:pt x="0" y="73"/>
                              </a:moveTo>
                              <a:lnTo>
                                <a:pt x="73" y="73"/>
                              </a:lnTo>
                              <a:lnTo>
                                <a:pt x="146" y="0"/>
                              </a:lnTo>
                              <a:lnTo>
                                <a:pt x="170" y="73"/>
                              </a:lnTo>
                              <a:lnTo>
                                <a:pt x="231" y="170"/>
                              </a:lnTo>
                              <a:lnTo>
                                <a:pt x="292" y="243"/>
                              </a:lnTo>
                              <a:lnTo>
                                <a:pt x="292" y="316"/>
                              </a:lnTo>
                              <a:lnTo>
                                <a:pt x="292" y="389"/>
                              </a:lnTo>
                              <a:lnTo>
                                <a:pt x="267" y="38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3670200" y="5081760"/>
                          <a:ext cx="463680" cy="619200"/>
                        </a:xfrm>
                        <a:custGeom>
                          <a:avLst/>
                          <a:gdLst/>
                          <a:ahLst/>
                          <a:rect l="l" t="t" r="r" b="b"/>
                          <a:pathLst>
                            <a:path w="292" h="390">
                              <a:moveTo>
                                <a:pt x="0" y="73"/>
                              </a:moveTo>
                              <a:lnTo>
                                <a:pt x="73" y="73"/>
                              </a:lnTo>
                              <a:lnTo>
                                <a:pt x="134" y="0"/>
                              </a:lnTo>
                              <a:lnTo>
                                <a:pt x="170" y="73"/>
                              </a:lnTo>
                              <a:lnTo>
                                <a:pt x="231" y="158"/>
                              </a:lnTo>
                              <a:lnTo>
                                <a:pt x="292" y="244"/>
                              </a:lnTo>
                              <a:lnTo>
                                <a:pt x="292" y="317"/>
                              </a:lnTo>
                              <a:lnTo>
                                <a:pt x="292" y="390"/>
                              </a:lnTo>
                              <a:lnTo>
                                <a:pt x="267" y="39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554640" y="5391360"/>
                          <a:ext cx="172800" cy="288720"/>
                        </a:xfrm>
                        <a:custGeom>
                          <a:avLst/>
                          <a:gdLst/>
                          <a:ahLst/>
                          <a:rect l="l" t="t" r="r" b="b"/>
                          <a:pathLst>
                            <a:path w="109" h="182">
                              <a:moveTo>
                                <a:pt x="0" y="0"/>
                              </a:moveTo>
                              <a:lnTo>
                                <a:pt x="109" y="61"/>
                              </a:lnTo>
                              <a:lnTo>
                                <a:pt x="48" y="134"/>
                              </a:lnTo>
                              <a:lnTo>
                                <a:pt x="48" y="18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73360" y="5410440"/>
                          <a:ext cx="173160" cy="290520"/>
                        </a:xfrm>
                        <a:custGeom>
                          <a:avLst/>
                          <a:gdLst/>
                          <a:ahLst/>
                          <a:rect l="l" t="t" r="r" b="b"/>
                          <a:pathLst>
                            <a:path w="109" h="183">
                              <a:moveTo>
                                <a:pt x="0" y="0"/>
                              </a:moveTo>
                              <a:lnTo>
                                <a:pt x="109" y="61"/>
                              </a:lnTo>
                              <a:lnTo>
                                <a:pt x="49" y="134"/>
                              </a:lnTo>
                              <a:lnTo>
                                <a:pt x="49" y="18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978360" y="5816880"/>
                          <a:ext cx="212760" cy="115560"/>
                        </a:xfrm>
                        <a:custGeom>
                          <a:avLst/>
                          <a:gdLst/>
                          <a:ahLst/>
                          <a:rect l="l" t="t" r="r" b="b"/>
                          <a:pathLst>
                            <a:path w="134" h="73">
                              <a:moveTo>
                                <a:pt x="0" y="73"/>
                              </a:moveTo>
                              <a:lnTo>
                                <a:pt x="0" y="0"/>
                              </a:lnTo>
                              <a:lnTo>
                                <a:pt x="86" y="0"/>
                              </a:lnTo>
                              <a:lnTo>
                                <a:pt x="134" y="24"/>
                              </a:lnTo>
                              <a:lnTo>
                                <a:pt x="134" y="2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998880" y="5835600"/>
                          <a:ext cx="211320" cy="115920"/>
                        </a:xfrm>
                        <a:custGeom>
                          <a:avLst/>
                          <a:gdLst/>
                          <a:ahLst/>
                          <a:rect l="l" t="t" r="r" b="b"/>
                          <a:pathLst>
                            <a:path w="133" h="73">
                              <a:moveTo>
                                <a:pt x="0" y="73"/>
                              </a:moveTo>
                              <a:lnTo>
                                <a:pt x="0" y="0"/>
                              </a:lnTo>
                              <a:lnTo>
                                <a:pt x="97" y="0"/>
                              </a:lnTo>
                              <a:lnTo>
                                <a:pt x="133" y="1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384800" y="1663920"/>
                          <a:ext cx="288720" cy="2317680"/>
                        </a:xfrm>
                        <a:custGeom>
                          <a:avLst/>
                          <a:gdLst/>
                          <a:ahLst/>
                          <a:rect l="l" t="t" r="r" b="b"/>
                          <a:pathLst>
                            <a:path w="182" h="1460">
                              <a:moveTo>
                                <a:pt x="97" y="0"/>
                              </a:moveTo>
                              <a:lnTo>
                                <a:pt x="97" y="73"/>
                              </a:lnTo>
                              <a:lnTo>
                                <a:pt x="0" y="134"/>
                              </a:lnTo>
                              <a:lnTo>
                                <a:pt x="0" y="207"/>
                              </a:lnTo>
                              <a:lnTo>
                                <a:pt x="97" y="280"/>
                              </a:lnTo>
                              <a:lnTo>
                                <a:pt x="158" y="353"/>
                              </a:lnTo>
                              <a:lnTo>
                                <a:pt x="158" y="438"/>
                              </a:lnTo>
                              <a:lnTo>
                                <a:pt x="122" y="511"/>
                              </a:lnTo>
                              <a:lnTo>
                                <a:pt x="122" y="584"/>
                              </a:lnTo>
                              <a:lnTo>
                                <a:pt x="146" y="657"/>
                              </a:lnTo>
                              <a:lnTo>
                                <a:pt x="182" y="742"/>
                              </a:lnTo>
                              <a:lnTo>
                                <a:pt x="182" y="815"/>
                              </a:lnTo>
                              <a:lnTo>
                                <a:pt x="182" y="888"/>
                              </a:lnTo>
                              <a:lnTo>
                                <a:pt x="158" y="973"/>
                              </a:lnTo>
                              <a:lnTo>
                                <a:pt x="122" y="1046"/>
                              </a:lnTo>
                              <a:lnTo>
                                <a:pt x="36" y="1119"/>
                              </a:lnTo>
                              <a:lnTo>
                                <a:pt x="12" y="1192"/>
                              </a:lnTo>
                              <a:lnTo>
                                <a:pt x="85" y="1277"/>
                              </a:lnTo>
                              <a:lnTo>
                                <a:pt x="170" y="1338"/>
                              </a:lnTo>
                              <a:lnTo>
                                <a:pt x="182" y="1411"/>
                              </a:lnTo>
                              <a:lnTo>
                                <a:pt x="182" y="1460"/>
                              </a:lnTo>
                              <a:lnTo>
                                <a:pt x="182" y="146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4403880" y="1683000"/>
                          <a:ext cx="288720" cy="2317680"/>
                        </a:xfrm>
                        <a:custGeom>
                          <a:avLst/>
                          <a:gdLst/>
                          <a:ahLst/>
                          <a:rect l="l" t="t" r="r" b="b"/>
                          <a:pathLst>
                            <a:path w="182" h="1460">
                              <a:moveTo>
                                <a:pt x="97" y="0"/>
                              </a:moveTo>
                              <a:lnTo>
                                <a:pt x="97" y="73"/>
                              </a:lnTo>
                              <a:lnTo>
                                <a:pt x="0" y="134"/>
                              </a:lnTo>
                              <a:lnTo>
                                <a:pt x="0" y="207"/>
                              </a:lnTo>
                              <a:lnTo>
                                <a:pt x="97" y="280"/>
                              </a:lnTo>
                              <a:lnTo>
                                <a:pt x="158" y="353"/>
                              </a:lnTo>
                              <a:lnTo>
                                <a:pt x="158" y="426"/>
                              </a:lnTo>
                              <a:lnTo>
                                <a:pt x="122" y="511"/>
                              </a:lnTo>
                              <a:lnTo>
                                <a:pt x="122" y="584"/>
                              </a:lnTo>
                              <a:lnTo>
                                <a:pt x="134" y="657"/>
                              </a:lnTo>
                              <a:lnTo>
                                <a:pt x="182" y="742"/>
                              </a:lnTo>
                              <a:lnTo>
                                <a:pt x="182" y="815"/>
                              </a:lnTo>
                              <a:lnTo>
                                <a:pt x="182" y="888"/>
                              </a:lnTo>
                              <a:lnTo>
                                <a:pt x="158" y="974"/>
                              </a:lnTo>
                              <a:lnTo>
                                <a:pt x="122" y="1047"/>
                              </a:lnTo>
                              <a:lnTo>
                                <a:pt x="37" y="1119"/>
                              </a:lnTo>
                              <a:lnTo>
                                <a:pt x="12" y="1192"/>
                              </a:lnTo>
                              <a:lnTo>
                                <a:pt x="73" y="1278"/>
                              </a:lnTo>
                              <a:lnTo>
                                <a:pt x="170" y="1338"/>
                              </a:lnTo>
                              <a:lnTo>
                                <a:pt x="182" y="1411"/>
                              </a:lnTo>
                              <a:lnTo>
                                <a:pt x="182" y="146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167280" y="620640"/>
                          <a:ext cx="212400" cy="290520"/>
                        </a:xfrm>
                        <a:custGeom>
                          <a:avLst/>
                          <a:gdLst/>
                          <a:ahLst/>
                          <a:rect l="l" t="t" r="r" b="b"/>
                          <a:pathLst>
                            <a:path w="134" h="183">
                              <a:moveTo>
                                <a:pt x="0" y="183"/>
                              </a:moveTo>
                              <a:lnTo>
                                <a:pt x="0" y="110"/>
                              </a:lnTo>
                              <a:lnTo>
                                <a:pt x="49" y="37"/>
                              </a:lnTo>
                              <a:lnTo>
                                <a:pt x="122" y="0"/>
                              </a:lnTo>
                              <a:lnTo>
                                <a:pt x="134" y="0"/>
                              </a:lnTo>
                              <a:lnTo>
                                <a:pt x="134"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187800" y="639720"/>
                          <a:ext cx="210960" cy="290520"/>
                        </a:xfrm>
                        <a:custGeom>
                          <a:avLst/>
                          <a:gdLst/>
                          <a:ahLst/>
                          <a:rect l="l" t="t" r="r" b="b"/>
                          <a:pathLst>
                            <a:path w="133" h="183">
                              <a:moveTo>
                                <a:pt x="0" y="183"/>
                              </a:moveTo>
                              <a:lnTo>
                                <a:pt x="0" y="110"/>
                              </a:lnTo>
                              <a:lnTo>
                                <a:pt x="48" y="25"/>
                              </a:lnTo>
                              <a:lnTo>
                                <a:pt x="121" y="0"/>
                              </a:lnTo>
                              <a:lnTo>
                                <a:pt x="133"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0" name=""/>
                    <p:cNvSpPr/>
                    <p:nvPr/>
                  </p:nvSpPr>
                  <p:spPr>
                    <a:xfrm>
                      <a:off x="4635720" y="4000680"/>
                      <a:ext cx="77760" cy="482400"/>
                    </a:xfrm>
                    <a:custGeom>
                      <a:avLst/>
                      <a:gdLst/>
                      <a:ahLst/>
                      <a:rect l="l" t="t" r="r" b="b"/>
                      <a:pathLst>
                        <a:path w="49" h="304">
                          <a:moveTo>
                            <a:pt x="0" y="304"/>
                          </a:moveTo>
                          <a:lnTo>
                            <a:pt x="49" y="231"/>
                          </a:lnTo>
                          <a:lnTo>
                            <a:pt x="49" y="158"/>
                          </a:lnTo>
                          <a:lnTo>
                            <a:pt x="36" y="85"/>
                          </a:lnTo>
                          <a:lnTo>
                            <a:pt x="36" y="0"/>
                          </a:lnTo>
                          <a:lnTo>
                            <a:pt x="36"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654440" y="4019760"/>
                      <a:ext cx="78120" cy="463320"/>
                    </a:xfrm>
                    <a:custGeom>
                      <a:avLst/>
                      <a:gdLst/>
                      <a:ahLst/>
                      <a:rect l="l" t="t" r="r" b="b"/>
                      <a:pathLst>
                        <a:path w="49" h="292">
                          <a:moveTo>
                            <a:pt x="0" y="292"/>
                          </a:moveTo>
                          <a:lnTo>
                            <a:pt x="49" y="219"/>
                          </a:lnTo>
                          <a:lnTo>
                            <a:pt x="49" y="146"/>
                          </a:lnTo>
                          <a:lnTo>
                            <a:pt x="37" y="73"/>
                          </a:lnTo>
                          <a:lnTo>
                            <a:pt x="37"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sp>
          <p:nvSpPr>
            <p:cNvPr id="172" name=""/>
            <p:cNvSpPr/>
            <p:nvPr/>
          </p:nvSpPr>
          <p:spPr>
            <a:xfrm>
              <a:off x="5074200" y="1952640"/>
              <a:ext cx="206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Palatino"/>
                </a:rPr>
                <a:t>Right mode </a:t>
              </a:r>
              <a:endParaRPr b="0" lang="en-US" sz="2700" spc="-1" strike="noStrike">
                <a:solidFill>
                  <a:srgbClr val="ffffff"/>
                </a:solidFill>
                <a:latin typeface="Times New Roman"/>
              </a:endParaRPr>
            </a:p>
          </p:txBody>
        </p:sp>
        <p:sp>
          <p:nvSpPr>
            <p:cNvPr id="173" name=""/>
            <p:cNvSpPr/>
            <p:nvPr/>
          </p:nvSpPr>
          <p:spPr>
            <a:xfrm>
              <a:off x="5100480" y="2340000"/>
              <a:ext cx="1864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Palatino"/>
                </a:rPr>
                <a:t>processing</a:t>
              </a:r>
              <a:endParaRPr b="0" lang="en-US" sz="2700" spc="-1" strike="noStrike">
                <a:solidFill>
                  <a:srgbClr val="ffffff"/>
                </a:solidFill>
                <a:latin typeface="Times New Roman"/>
              </a:endParaRPr>
            </a:p>
          </p:txBody>
        </p:sp>
        <p:sp>
          <p:nvSpPr>
            <p:cNvPr id="174" name=""/>
            <p:cNvSpPr/>
            <p:nvPr/>
          </p:nvSpPr>
          <p:spPr>
            <a:xfrm>
              <a:off x="2049480" y="1952640"/>
              <a:ext cx="1844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Palatino"/>
                </a:rPr>
                <a:t>Left mode </a:t>
              </a:r>
              <a:endParaRPr b="0" lang="en-US" sz="2700" spc="-1" strike="noStrike">
                <a:solidFill>
                  <a:srgbClr val="ffffff"/>
                </a:solidFill>
                <a:latin typeface="Times New Roman"/>
              </a:endParaRPr>
            </a:p>
          </p:txBody>
        </p:sp>
        <p:sp>
          <p:nvSpPr>
            <p:cNvPr id="175" name=""/>
            <p:cNvSpPr/>
            <p:nvPr/>
          </p:nvSpPr>
          <p:spPr>
            <a:xfrm>
              <a:off x="2087280" y="2340000"/>
              <a:ext cx="1864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Palatino"/>
                </a:rPr>
                <a:t>processing</a:t>
              </a:r>
              <a:endParaRPr b="0" lang="en-US" sz="2700" spc="-1" strike="noStrike">
                <a:solidFill>
                  <a:srgbClr val="ffffff"/>
                </a:solidFill>
                <a:latin typeface="Times New Roman"/>
              </a:endParaRPr>
            </a:p>
          </p:txBody>
        </p:sp>
        <p:sp>
          <p:nvSpPr>
            <p:cNvPr id="176" name=""/>
            <p:cNvSpPr/>
            <p:nvPr/>
          </p:nvSpPr>
          <p:spPr>
            <a:xfrm>
              <a:off x="1950480" y="2900520"/>
              <a:ext cx="215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serial/sequential </a:t>
              </a:r>
              <a:endParaRPr b="0" lang="en-US" sz="1800" spc="-1" strike="noStrike">
                <a:solidFill>
                  <a:srgbClr val="ffffff"/>
                </a:solidFill>
                <a:latin typeface="Times New Roman"/>
              </a:endParaRPr>
            </a:p>
          </p:txBody>
        </p:sp>
        <p:sp>
          <p:nvSpPr>
            <p:cNvPr id="177" name=""/>
            <p:cNvSpPr/>
            <p:nvPr/>
          </p:nvSpPr>
          <p:spPr>
            <a:xfrm>
              <a:off x="1969560" y="3151440"/>
              <a:ext cx="215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focal/convergent </a:t>
              </a:r>
              <a:endParaRPr b="0" lang="en-US" sz="1800" spc="-1" strike="noStrike">
                <a:solidFill>
                  <a:srgbClr val="ffffff"/>
                </a:solidFill>
                <a:latin typeface="Times New Roman"/>
              </a:endParaRPr>
            </a:p>
          </p:txBody>
        </p:sp>
        <p:sp>
          <p:nvSpPr>
            <p:cNvPr id="178" name=""/>
            <p:cNvSpPr/>
            <p:nvPr/>
          </p:nvSpPr>
          <p:spPr>
            <a:xfrm>
              <a:off x="1960560" y="3402000"/>
              <a:ext cx="207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verbal/symbolic </a:t>
              </a:r>
              <a:endParaRPr b="0" lang="en-US" sz="1800" spc="-1" strike="noStrike">
                <a:solidFill>
                  <a:srgbClr val="ffffff"/>
                </a:solidFill>
                <a:latin typeface="Times New Roman"/>
              </a:endParaRPr>
            </a:p>
          </p:txBody>
        </p:sp>
        <p:sp>
          <p:nvSpPr>
            <p:cNvPr id="179" name=""/>
            <p:cNvSpPr/>
            <p:nvPr/>
          </p:nvSpPr>
          <p:spPr>
            <a:xfrm>
              <a:off x="1946160" y="3652920"/>
              <a:ext cx="213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logical/analytical</a:t>
              </a:r>
              <a:endParaRPr b="0" lang="en-US" sz="1800" spc="-1" strike="noStrike">
                <a:solidFill>
                  <a:srgbClr val="ffffff"/>
                </a:solidFill>
                <a:latin typeface="Times New Roman"/>
              </a:endParaRPr>
            </a:p>
          </p:txBody>
        </p:sp>
        <p:sp>
          <p:nvSpPr>
            <p:cNvPr id="180" name=""/>
            <p:cNvSpPr/>
            <p:nvPr/>
          </p:nvSpPr>
          <p:spPr>
            <a:xfrm>
              <a:off x="4759560" y="2900520"/>
              <a:ext cx="275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parallel/simultaneous </a:t>
              </a:r>
              <a:endParaRPr b="0" lang="en-US" sz="1800" spc="-1" strike="noStrike">
                <a:solidFill>
                  <a:srgbClr val="ffffff"/>
                </a:solidFill>
                <a:latin typeface="Times New Roman"/>
              </a:endParaRPr>
            </a:p>
          </p:txBody>
        </p:sp>
        <p:sp>
          <p:nvSpPr>
            <p:cNvPr id="181" name=""/>
            <p:cNvSpPr/>
            <p:nvPr/>
          </p:nvSpPr>
          <p:spPr>
            <a:xfrm>
              <a:off x="4793760" y="315144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diffuse/divergent </a:t>
              </a:r>
              <a:endParaRPr b="0" lang="en-US" sz="1800" spc="-1" strike="noStrike">
                <a:solidFill>
                  <a:srgbClr val="ffffff"/>
                </a:solidFill>
                <a:latin typeface="Times New Roman"/>
              </a:endParaRPr>
            </a:p>
          </p:txBody>
        </p:sp>
        <p:sp>
          <p:nvSpPr>
            <p:cNvPr id="182" name=""/>
            <p:cNvSpPr/>
            <p:nvPr/>
          </p:nvSpPr>
          <p:spPr>
            <a:xfrm>
              <a:off x="4811040" y="3402000"/>
              <a:ext cx="176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image/spatial </a:t>
              </a:r>
              <a:endParaRPr b="0" lang="en-US" sz="1800" spc="-1" strike="noStrike">
                <a:solidFill>
                  <a:srgbClr val="ffffff"/>
                </a:solidFill>
                <a:latin typeface="Times New Roman"/>
              </a:endParaRPr>
            </a:p>
          </p:txBody>
        </p:sp>
        <p:sp>
          <p:nvSpPr>
            <p:cNvPr id="183" name=""/>
            <p:cNvSpPr/>
            <p:nvPr/>
          </p:nvSpPr>
          <p:spPr>
            <a:xfrm>
              <a:off x="4771080" y="3652920"/>
              <a:ext cx="213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intuitive/holistic </a:t>
              </a:r>
              <a:endParaRPr b="0" lang="en-US" sz="1800" spc="-1" strike="noStrike">
                <a:solidFill>
                  <a:srgbClr val="ffffff"/>
                </a:solidFill>
                <a:latin typeface="Times New Roman"/>
              </a:endParaRPr>
            </a:p>
          </p:txBody>
        </p:sp>
      </p:grpSp>
      <p:sp>
        <p:nvSpPr>
          <p:cNvPr id="184" name=""/>
          <p:cNvSpPr/>
          <p:nvPr/>
        </p:nvSpPr>
        <p:spPr>
          <a:xfrm>
            <a:off x="395280" y="115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Verdana"/>
              </a:rPr>
              <a:t>The Brain - right versus left</a:t>
            </a:r>
            <a:endParaRPr b="0" lang="en-US" sz="2800" spc="-1" strike="noStrike">
              <a:solidFill>
                <a:srgbClr val="ffffff"/>
              </a:solidFill>
              <a:latin typeface="Times New Roman"/>
            </a:endParaRPr>
          </a:p>
        </p:txBody>
      </p:sp>
      <p:sp>
        <p:nvSpPr>
          <p:cNvPr id="185" name=""/>
          <p:cNvSpPr/>
          <p:nvPr/>
        </p:nvSpPr>
        <p:spPr>
          <a:xfrm>
            <a:off x="2700360" y="4797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9900"/>
                </a:solidFill>
                <a:latin typeface="Times New Roman"/>
              </a:rPr>
              <a:t>the wood</a:t>
            </a:r>
            <a:endParaRPr b="0" lang="en-US" sz="2400" spc="-1" strike="noStrike">
              <a:solidFill>
                <a:srgbClr val="ffffff"/>
              </a:solidFill>
              <a:latin typeface="Times New Roman"/>
            </a:endParaRPr>
          </a:p>
        </p:txBody>
      </p:sp>
      <p:grpSp>
        <p:nvGrpSpPr>
          <p:cNvPr id="186" name=""/>
          <p:cNvGrpSpPr/>
          <p:nvPr/>
        </p:nvGrpSpPr>
        <p:grpSpPr>
          <a:xfrm>
            <a:off x="5219640" y="4581360"/>
            <a:ext cx="1533600" cy="907560"/>
            <a:chOff x="5219640" y="4581360"/>
            <a:chExt cx="1533600" cy="907560"/>
          </a:xfrm>
        </p:grpSpPr>
        <p:pic>
          <p:nvPicPr>
            <p:cNvPr id="187" name="" descr=""/>
            <p:cNvPicPr/>
            <p:nvPr/>
          </p:nvPicPr>
          <p:blipFill>
            <a:blip r:embed="rId1"/>
            <a:stretch/>
          </p:blipFill>
          <p:spPr>
            <a:xfrm>
              <a:off x="5219640" y="4581360"/>
              <a:ext cx="403560" cy="877680"/>
            </a:xfrm>
            <a:prstGeom prst="rect">
              <a:avLst/>
            </a:prstGeom>
            <a:ln w="0">
              <a:noFill/>
            </a:ln>
          </p:spPr>
        </p:pic>
        <p:grpSp>
          <p:nvGrpSpPr>
            <p:cNvPr id="188" name=""/>
            <p:cNvGrpSpPr/>
            <p:nvPr/>
          </p:nvGrpSpPr>
          <p:grpSpPr>
            <a:xfrm>
              <a:off x="5435640" y="4681080"/>
              <a:ext cx="1317600" cy="807840"/>
              <a:chOff x="5435640" y="4681080"/>
              <a:chExt cx="1317600" cy="807840"/>
            </a:xfrm>
          </p:grpSpPr>
          <p:pic>
            <p:nvPicPr>
              <p:cNvPr id="189" name="" descr=""/>
              <p:cNvPicPr/>
              <p:nvPr/>
            </p:nvPicPr>
            <p:blipFill>
              <a:blip r:embed="rId2"/>
              <a:stretch/>
            </p:blipFill>
            <p:spPr>
              <a:xfrm>
                <a:off x="5435640" y="4739760"/>
                <a:ext cx="538560" cy="737280"/>
              </a:xfrm>
              <a:prstGeom prst="rect">
                <a:avLst/>
              </a:prstGeom>
              <a:ln w="0">
                <a:noFill/>
              </a:ln>
            </p:spPr>
          </p:pic>
          <p:pic>
            <p:nvPicPr>
              <p:cNvPr id="190" name="" descr=""/>
              <p:cNvPicPr/>
              <p:nvPr/>
            </p:nvPicPr>
            <p:blipFill>
              <a:blip r:embed="rId3"/>
              <a:stretch/>
            </p:blipFill>
            <p:spPr>
              <a:xfrm>
                <a:off x="5822280" y="4739760"/>
                <a:ext cx="583920" cy="749160"/>
              </a:xfrm>
              <a:prstGeom prst="rect">
                <a:avLst/>
              </a:prstGeom>
              <a:ln w="0">
                <a:noFill/>
              </a:ln>
            </p:spPr>
          </p:pic>
          <p:pic>
            <p:nvPicPr>
              <p:cNvPr id="191" name="" descr=""/>
              <p:cNvPicPr/>
              <p:nvPr/>
            </p:nvPicPr>
            <p:blipFill>
              <a:blip r:embed="rId4"/>
              <a:stretch/>
            </p:blipFill>
            <p:spPr>
              <a:xfrm>
                <a:off x="6179040" y="4681080"/>
                <a:ext cx="574200" cy="749160"/>
              </a:xfrm>
              <a:prstGeom prst="rect">
                <a:avLst/>
              </a:prstGeom>
              <a:ln w="0">
                <a:noFill/>
              </a:ln>
            </p:spPr>
          </p:pic>
        </p:grpSp>
      </p:grpSp>
    </p:spTree>
  </p:cSld>
  <p:transition spd="slow">
    <p:pull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85"/>
                                        </p:tgtEl>
                                        <p:attrNameLst>
                                          <p:attrName>style.visibility</p:attrName>
                                        </p:attrNameLst>
                                      </p:cBhvr>
                                      <p:to>
                                        <p:strVal val="visible"/>
                                      </p:to>
                                    </p:set>
                                    <p:anim calcmode="lin" valueType="num">
                                      <p:cBhvr additive="base">
                                        <p:cTn id="14" dur="500" fill="hold"/>
                                        <p:tgtEl>
                                          <p:spTgt spid="185"/>
                                        </p:tgtEl>
                                        <p:attrNameLst>
                                          <p:attrName>ppt_x</p:attrName>
                                        </p:attrNameLst>
                                      </p:cBhvr>
                                      <p:tavLst>
                                        <p:tav tm="0">
                                          <p:val>
                                            <p:strVal val="#ppt_x"/>
                                          </p:val>
                                        </p:tav>
                                        <p:tav tm="100000">
                                          <p:val>
                                            <p:strVal val="#ppt_x"/>
                                          </p:val>
                                        </p:tav>
                                      </p:tavLst>
                                    </p:anim>
                                    <p:anim calcmode="lin" valueType="num">
                                      <p:cBhvr additive="base">
                                        <p:cTn id="1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86"/>
                                        </p:tgtEl>
                                        <p:attrNameLst>
                                          <p:attrName>style.visibility</p:attrName>
                                        </p:attrNameLst>
                                      </p:cBhvr>
                                      <p:to>
                                        <p:strVal val="visible"/>
                                      </p:to>
                                    </p:set>
                                    <p:anim calcmode="lin" valueType="num">
                                      <p:cBhvr additive="base">
                                        <p:cTn id="20" dur="500" fill="hold"/>
                                        <p:tgtEl>
                                          <p:spTgt spid="186"/>
                                        </p:tgtEl>
                                        <p:attrNameLst>
                                          <p:attrName>ppt_x</p:attrName>
                                        </p:attrNameLst>
                                      </p:cBhvr>
                                      <p:tavLst>
                                        <p:tav tm="0">
                                          <p:val>
                                            <p:strVal val="#ppt_x"/>
                                          </p:val>
                                        </p:tav>
                                        <p:tav tm="100000">
                                          <p:val>
                                            <p:strVal val="#ppt_x"/>
                                          </p:val>
                                        </p:tav>
                                      </p:tavLst>
                                    </p:anim>
                                    <p:anim calcmode="lin" valueType="num">
                                      <p:cBhvr additive="base">
                                        <p:cTn id="2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95280" y="115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Verdana"/>
              </a:rPr>
              <a:t>The Brain - cerebral versus limbic</a:t>
            </a:r>
            <a:endParaRPr b="0" lang="en-US" sz="2800" spc="-1" strike="noStrike">
              <a:solidFill>
                <a:srgbClr val="ffffff"/>
              </a:solidFill>
              <a:latin typeface="Times New Roman"/>
            </a:endParaRPr>
          </a:p>
        </p:txBody>
      </p:sp>
      <p:sp>
        <p:nvSpPr>
          <p:cNvPr id="193" name=""/>
          <p:cNvSpPr/>
          <p:nvPr/>
        </p:nvSpPr>
        <p:spPr>
          <a:xfrm>
            <a:off x="539640" y="450864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00"/>
                </a:solidFill>
                <a:latin typeface="Times New Roman"/>
              </a:rPr>
              <a:t>MacLean’s Triune Brain</a:t>
            </a:r>
            <a:endParaRPr b="0" lang="en-US" sz="1800" spc="-1" strike="noStrike">
              <a:solidFill>
                <a:srgbClr val="ffffff"/>
              </a:solidFill>
              <a:latin typeface="Times New Roman"/>
            </a:endParaRPr>
          </a:p>
        </p:txBody>
      </p:sp>
      <p:sp>
        <p:nvSpPr>
          <p:cNvPr id="194" name=""/>
          <p:cNvSpPr/>
          <p:nvPr/>
        </p:nvSpPr>
        <p:spPr>
          <a:xfrm>
            <a:off x="5724360" y="1270080"/>
            <a:ext cx="2880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Times New Roman"/>
              </a:rPr>
              <a:t>Neocortex - conceptual, cerebral, reasoning “thinking cap”</a:t>
            </a:r>
            <a:endParaRPr b="0" lang="en-US" sz="2000" spc="-1" strike="noStrike">
              <a:solidFill>
                <a:srgbClr val="ffffff"/>
              </a:solidFill>
              <a:latin typeface="Times New Roman"/>
            </a:endParaRPr>
          </a:p>
        </p:txBody>
      </p:sp>
      <p:sp>
        <p:nvSpPr>
          <p:cNvPr id="195" name=""/>
          <p:cNvSpPr/>
          <p:nvPr/>
        </p:nvSpPr>
        <p:spPr>
          <a:xfrm>
            <a:off x="6227640" y="2838600"/>
            <a:ext cx="2916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cc"/>
                </a:solidFill>
                <a:latin typeface="Times New Roman"/>
              </a:rPr>
              <a:t>Limbic - emotional, registers rewards &amp; punishments, controls ANS (fight or flight)</a:t>
            </a:r>
            <a:endParaRPr b="0" lang="en-US" sz="2000" spc="-1" strike="noStrike">
              <a:solidFill>
                <a:srgbClr val="ffffff"/>
              </a:solidFill>
              <a:latin typeface="Times New Roman"/>
            </a:endParaRPr>
          </a:p>
        </p:txBody>
      </p:sp>
      <p:sp>
        <p:nvSpPr>
          <p:cNvPr id="196" name=""/>
          <p:cNvSpPr/>
          <p:nvPr/>
        </p:nvSpPr>
        <p:spPr>
          <a:xfrm>
            <a:off x="4788000" y="4724280"/>
            <a:ext cx="2592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Reptilian - instinctive, most ancient part of the brain</a:t>
            </a:r>
            <a:endParaRPr b="0" lang="en-US" sz="2000" spc="-1" strike="noStrike">
              <a:solidFill>
                <a:srgbClr val="ffffff"/>
              </a:solidFill>
              <a:latin typeface="Times New Roman"/>
            </a:endParaRPr>
          </a:p>
        </p:txBody>
      </p:sp>
      <p:sp>
        <p:nvSpPr>
          <p:cNvPr id="197" name=""/>
          <p:cNvSpPr/>
          <p:nvPr/>
        </p:nvSpPr>
        <p:spPr>
          <a:xfrm>
            <a:off x="571680" y="1947960"/>
            <a:ext cx="3043080" cy="3260520"/>
          </a:xfrm>
          <a:custGeom>
            <a:avLst/>
            <a:gdLst/>
            <a:ahLst/>
            <a:rect l="l" t="t" r="r" b="b"/>
            <a:pathLst>
              <a:path w="1917" h="2054">
                <a:moveTo>
                  <a:pt x="1682" y="2054"/>
                </a:moveTo>
                <a:lnTo>
                  <a:pt x="1624" y="2015"/>
                </a:lnTo>
                <a:lnTo>
                  <a:pt x="1526" y="1917"/>
                </a:lnTo>
                <a:lnTo>
                  <a:pt x="1409" y="1799"/>
                </a:lnTo>
                <a:lnTo>
                  <a:pt x="1350" y="1760"/>
                </a:lnTo>
                <a:lnTo>
                  <a:pt x="1330" y="1760"/>
                </a:lnTo>
                <a:lnTo>
                  <a:pt x="1252" y="1702"/>
                </a:lnTo>
                <a:lnTo>
                  <a:pt x="1135" y="1604"/>
                </a:lnTo>
                <a:lnTo>
                  <a:pt x="1017" y="1506"/>
                </a:lnTo>
                <a:lnTo>
                  <a:pt x="939" y="1408"/>
                </a:lnTo>
                <a:lnTo>
                  <a:pt x="861" y="1330"/>
                </a:lnTo>
                <a:lnTo>
                  <a:pt x="782" y="1291"/>
                </a:lnTo>
                <a:lnTo>
                  <a:pt x="606" y="1271"/>
                </a:lnTo>
                <a:lnTo>
                  <a:pt x="450" y="1232"/>
                </a:lnTo>
                <a:lnTo>
                  <a:pt x="332" y="1115"/>
                </a:lnTo>
                <a:lnTo>
                  <a:pt x="293" y="958"/>
                </a:lnTo>
                <a:lnTo>
                  <a:pt x="176" y="802"/>
                </a:lnTo>
                <a:lnTo>
                  <a:pt x="39" y="626"/>
                </a:lnTo>
                <a:lnTo>
                  <a:pt x="0" y="508"/>
                </a:lnTo>
                <a:lnTo>
                  <a:pt x="0" y="450"/>
                </a:lnTo>
                <a:lnTo>
                  <a:pt x="97" y="293"/>
                </a:lnTo>
                <a:lnTo>
                  <a:pt x="274" y="137"/>
                </a:lnTo>
                <a:lnTo>
                  <a:pt x="411" y="58"/>
                </a:lnTo>
                <a:lnTo>
                  <a:pt x="587" y="19"/>
                </a:lnTo>
                <a:lnTo>
                  <a:pt x="900" y="0"/>
                </a:lnTo>
                <a:lnTo>
                  <a:pt x="1232" y="58"/>
                </a:lnTo>
                <a:lnTo>
                  <a:pt x="1409" y="137"/>
                </a:lnTo>
                <a:lnTo>
                  <a:pt x="1565" y="273"/>
                </a:lnTo>
                <a:lnTo>
                  <a:pt x="1643" y="332"/>
                </a:lnTo>
                <a:lnTo>
                  <a:pt x="1702" y="410"/>
                </a:lnTo>
                <a:lnTo>
                  <a:pt x="1780" y="508"/>
                </a:lnTo>
                <a:lnTo>
                  <a:pt x="1819" y="723"/>
                </a:lnTo>
                <a:lnTo>
                  <a:pt x="1780" y="821"/>
                </a:lnTo>
                <a:lnTo>
                  <a:pt x="1741" y="899"/>
                </a:lnTo>
                <a:lnTo>
                  <a:pt x="1585" y="997"/>
                </a:lnTo>
                <a:lnTo>
                  <a:pt x="1487" y="1036"/>
                </a:lnTo>
                <a:lnTo>
                  <a:pt x="1409" y="1076"/>
                </a:lnTo>
                <a:lnTo>
                  <a:pt x="1350" y="1095"/>
                </a:lnTo>
                <a:lnTo>
                  <a:pt x="1311" y="1173"/>
                </a:lnTo>
                <a:lnTo>
                  <a:pt x="1330" y="1232"/>
                </a:lnTo>
                <a:lnTo>
                  <a:pt x="1409" y="1252"/>
                </a:lnTo>
                <a:lnTo>
                  <a:pt x="1565" y="1173"/>
                </a:lnTo>
                <a:lnTo>
                  <a:pt x="1624" y="1115"/>
                </a:lnTo>
                <a:lnTo>
                  <a:pt x="1722" y="1095"/>
                </a:lnTo>
                <a:lnTo>
                  <a:pt x="1819" y="1115"/>
                </a:lnTo>
                <a:lnTo>
                  <a:pt x="1898" y="1252"/>
                </a:lnTo>
                <a:lnTo>
                  <a:pt x="1917" y="1310"/>
                </a:lnTo>
                <a:lnTo>
                  <a:pt x="1917" y="1389"/>
                </a:lnTo>
                <a:lnTo>
                  <a:pt x="1859" y="1467"/>
                </a:lnTo>
                <a:lnTo>
                  <a:pt x="1741" y="1526"/>
                </a:lnTo>
                <a:lnTo>
                  <a:pt x="1682" y="1584"/>
                </a:lnTo>
                <a:lnTo>
                  <a:pt x="1682" y="1721"/>
                </a:lnTo>
                <a:lnTo>
                  <a:pt x="1800" y="1858"/>
                </a:lnTo>
                <a:lnTo>
                  <a:pt x="1839" y="1878"/>
                </a:lnTo>
                <a:lnTo>
                  <a:pt x="1878" y="1917"/>
                </a:lnTo>
                <a:lnTo>
                  <a:pt x="1917" y="1956"/>
                </a:lnTo>
                <a:lnTo>
                  <a:pt x="1682" y="2054"/>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571680" y="1947960"/>
            <a:ext cx="3043080" cy="3260520"/>
          </a:xfrm>
          <a:custGeom>
            <a:avLst/>
            <a:gdLst/>
            <a:ahLst/>
            <a:rect l="l" t="t" r="r" b="b"/>
            <a:pathLst>
              <a:path w="1917" h="2054">
                <a:moveTo>
                  <a:pt x="1682" y="2054"/>
                </a:moveTo>
                <a:lnTo>
                  <a:pt x="1624" y="2015"/>
                </a:lnTo>
                <a:lnTo>
                  <a:pt x="1526" y="1917"/>
                </a:lnTo>
                <a:lnTo>
                  <a:pt x="1409" y="1799"/>
                </a:lnTo>
                <a:lnTo>
                  <a:pt x="1350" y="1760"/>
                </a:lnTo>
                <a:lnTo>
                  <a:pt x="1330" y="1760"/>
                </a:lnTo>
                <a:lnTo>
                  <a:pt x="1252" y="1702"/>
                </a:lnTo>
                <a:lnTo>
                  <a:pt x="1135" y="1604"/>
                </a:lnTo>
                <a:lnTo>
                  <a:pt x="1017" y="1506"/>
                </a:lnTo>
                <a:lnTo>
                  <a:pt x="939" y="1408"/>
                </a:lnTo>
                <a:lnTo>
                  <a:pt x="861" y="1330"/>
                </a:lnTo>
                <a:lnTo>
                  <a:pt x="782" y="1291"/>
                </a:lnTo>
                <a:lnTo>
                  <a:pt x="606" y="1271"/>
                </a:lnTo>
                <a:lnTo>
                  <a:pt x="450" y="1232"/>
                </a:lnTo>
                <a:lnTo>
                  <a:pt x="332" y="1115"/>
                </a:lnTo>
                <a:lnTo>
                  <a:pt x="293" y="958"/>
                </a:lnTo>
                <a:lnTo>
                  <a:pt x="176" y="802"/>
                </a:lnTo>
                <a:lnTo>
                  <a:pt x="39" y="626"/>
                </a:lnTo>
                <a:lnTo>
                  <a:pt x="0" y="508"/>
                </a:lnTo>
                <a:lnTo>
                  <a:pt x="0" y="450"/>
                </a:lnTo>
                <a:lnTo>
                  <a:pt x="97" y="293"/>
                </a:lnTo>
                <a:lnTo>
                  <a:pt x="274" y="137"/>
                </a:lnTo>
                <a:lnTo>
                  <a:pt x="411" y="58"/>
                </a:lnTo>
                <a:lnTo>
                  <a:pt x="587" y="19"/>
                </a:lnTo>
                <a:lnTo>
                  <a:pt x="900" y="0"/>
                </a:lnTo>
                <a:lnTo>
                  <a:pt x="1232" y="58"/>
                </a:lnTo>
                <a:lnTo>
                  <a:pt x="1409" y="137"/>
                </a:lnTo>
                <a:lnTo>
                  <a:pt x="1565" y="273"/>
                </a:lnTo>
                <a:lnTo>
                  <a:pt x="1643" y="332"/>
                </a:lnTo>
                <a:lnTo>
                  <a:pt x="1702" y="410"/>
                </a:lnTo>
                <a:lnTo>
                  <a:pt x="1780" y="508"/>
                </a:lnTo>
                <a:lnTo>
                  <a:pt x="1819" y="723"/>
                </a:lnTo>
                <a:lnTo>
                  <a:pt x="1780" y="821"/>
                </a:lnTo>
                <a:lnTo>
                  <a:pt x="1741" y="899"/>
                </a:lnTo>
                <a:lnTo>
                  <a:pt x="1585" y="997"/>
                </a:lnTo>
                <a:lnTo>
                  <a:pt x="1487" y="1036"/>
                </a:lnTo>
                <a:lnTo>
                  <a:pt x="1409" y="1076"/>
                </a:lnTo>
                <a:lnTo>
                  <a:pt x="1350" y="1095"/>
                </a:lnTo>
                <a:lnTo>
                  <a:pt x="1311" y="1173"/>
                </a:lnTo>
                <a:lnTo>
                  <a:pt x="1330" y="1232"/>
                </a:lnTo>
                <a:lnTo>
                  <a:pt x="1409" y="1252"/>
                </a:lnTo>
                <a:lnTo>
                  <a:pt x="1565" y="1173"/>
                </a:lnTo>
                <a:lnTo>
                  <a:pt x="1624" y="1115"/>
                </a:lnTo>
                <a:lnTo>
                  <a:pt x="1722" y="1095"/>
                </a:lnTo>
                <a:lnTo>
                  <a:pt x="1819" y="1115"/>
                </a:lnTo>
                <a:lnTo>
                  <a:pt x="1898" y="1252"/>
                </a:lnTo>
                <a:lnTo>
                  <a:pt x="1917" y="1310"/>
                </a:lnTo>
                <a:lnTo>
                  <a:pt x="1917" y="1389"/>
                </a:lnTo>
                <a:lnTo>
                  <a:pt x="1859" y="1467"/>
                </a:lnTo>
                <a:lnTo>
                  <a:pt x="1741" y="1526"/>
                </a:lnTo>
                <a:lnTo>
                  <a:pt x="1682" y="1584"/>
                </a:lnTo>
                <a:lnTo>
                  <a:pt x="1682" y="1721"/>
                </a:lnTo>
                <a:lnTo>
                  <a:pt x="1800" y="1858"/>
                </a:lnTo>
                <a:lnTo>
                  <a:pt x="1839" y="1878"/>
                </a:lnTo>
                <a:lnTo>
                  <a:pt x="1878" y="1917"/>
                </a:lnTo>
                <a:lnTo>
                  <a:pt x="1917" y="1956"/>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flipV="1">
            <a:off x="3614760" y="5052960"/>
            <a:ext cx="31680" cy="30240"/>
          </a:xfrm>
          <a:prstGeom prst="line">
            <a:avLst/>
          </a:prstGeom>
          <a:ln w="31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0" name=""/>
          <p:cNvSpPr/>
          <p:nvPr/>
        </p:nvSpPr>
        <p:spPr>
          <a:xfrm>
            <a:off x="1285920" y="2662200"/>
            <a:ext cx="2236680" cy="2484360"/>
          </a:xfrm>
          <a:custGeom>
            <a:avLst/>
            <a:gdLst/>
            <a:ahLst/>
            <a:rect l="l" t="t" r="r" b="b"/>
            <a:pathLst>
              <a:path w="1409" h="1565">
                <a:moveTo>
                  <a:pt x="1272" y="1565"/>
                </a:moveTo>
                <a:lnTo>
                  <a:pt x="1232" y="1545"/>
                </a:lnTo>
                <a:lnTo>
                  <a:pt x="1135" y="1467"/>
                </a:lnTo>
                <a:lnTo>
                  <a:pt x="1037" y="1369"/>
                </a:lnTo>
                <a:lnTo>
                  <a:pt x="959" y="1291"/>
                </a:lnTo>
                <a:lnTo>
                  <a:pt x="763" y="1115"/>
                </a:lnTo>
                <a:lnTo>
                  <a:pt x="606" y="939"/>
                </a:lnTo>
                <a:lnTo>
                  <a:pt x="411" y="743"/>
                </a:lnTo>
                <a:lnTo>
                  <a:pt x="234" y="626"/>
                </a:lnTo>
                <a:lnTo>
                  <a:pt x="78" y="508"/>
                </a:lnTo>
                <a:lnTo>
                  <a:pt x="0" y="313"/>
                </a:lnTo>
                <a:lnTo>
                  <a:pt x="0" y="176"/>
                </a:lnTo>
                <a:lnTo>
                  <a:pt x="78" y="97"/>
                </a:lnTo>
                <a:lnTo>
                  <a:pt x="234" y="19"/>
                </a:lnTo>
                <a:lnTo>
                  <a:pt x="469" y="0"/>
                </a:lnTo>
                <a:lnTo>
                  <a:pt x="685" y="19"/>
                </a:lnTo>
                <a:lnTo>
                  <a:pt x="841" y="97"/>
                </a:lnTo>
                <a:lnTo>
                  <a:pt x="900" y="195"/>
                </a:lnTo>
                <a:lnTo>
                  <a:pt x="900" y="254"/>
                </a:lnTo>
                <a:lnTo>
                  <a:pt x="900" y="332"/>
                </a:lnTo>
                <a:lnTo>
                  <a:pt x="822" y="547"/>
                </a:lnTo>
                <a:lnTo>
                  <a:pt x="841" y="743"/>
                </a:lnTo>
                <a:lnTo>
                  <a:pt x="900" y="821"/>
                </a:lnTo>
                <a:lnTo>
                  <a:pt x="959" y="860"/>
                </a:lnTo>
                <a:lnTo>
                  <a:pt x="1174" y="841"/>
                </a:lnTo>
                <a:lnTo>
                  <a:pt x="1272" y="821"/>
                </a:lnTo>
                <a:lnTo>
                  <a:pt x="1311" y="860"/>
                </a:lnTo>
                <a:lnTo>
                  <a:pt x="1213" y="1056"/>
                </a:lnTo>
                <a:lnTo>
                  <a:pt x="1135" y="1154"/>
                </a:lnTo>
                <a:lnTo>
                  <a:pt x="1135" y="1193"/>
                </a:lnTo>
                <a:lnTo>
                  <a:pt x="1174" y="1252"/>
                </a:lnTo>
                <a:lnTo>
                  <a:pt x="1213" y="1330"/>
                </a:lnTo>
                <a:lnTo>
                  <a:pt x="1311" y="1428"/>
                </a:lnTo>
                <a:lnTo>
                  <a:pt x="1409" y="1525"/>
                </a:lnTo>
                <a:lnTo>
                  <a:pt x="1272" y="156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285920" y="2662200"/>
            <a:ext cx="2236680" cy="2484360"/>
          </a:xfrm>
          <a:custGeom>
            <a:avLst/>
            <a:gdLst/>
            <a:ahLst/>
            <a:rect l="l" t="t" r="r" b="b"/>
            <a:pathLst>
              <a:path w="1409" h="1565">
                <a:moveTo>
                  <a:pt x="1272" y="1565"/>
                </a:moveTo>
                <a:lnTo>
                  <a:pt x="1232" y="1545"/>
                </a:lnTo>
                <a:lnTo>
                  <a:pt x="1135" y="1467"/>
                </a:lnTo>
                <a:lnTo>
                  <a:pt x="1037" y="1369"/>
                </a:lnTo>
                <a:lnTo>
                  <a:pt x="959" y="1291"/>
                </a:lnTo>
                <a:lnTo>
                  <a:pt x="763" y="1115"/>
                </a:lnTo>
                <a:lnTo>
                  <a:pt x="606" y="939"/>
                </a:lnTo>
                <a:lnTo>
                  <a:pt x="411" y="743"/>
                </a:lnTo>
                <a:lnTo>
                  <a:pt x="234" y="626"/>
                </a:lnTo>
                <a:lnTo>
                  <a:pt x="78" y="508"/>
                </a:lnTo>
                <a:lnTo>
                  <a:pt x="0" y="313"/>
                </a:lnTo>
                <a:lnTo>
                  <a:pt x="0" y="176"/>
                </a:lnTo>
                <a:lnTo>
                  <a:pt x="78" y="97"/>
                </a:lnTo>
                <a:lnTo>
                  <a:pt x="234" y="19"/>
                </a:lnTo>
                <a:lnTo>
                  <a:pt x="469" y="0"/>
                </a:lnTo>
                <a:lnTo>
                  <a:pt x="685" y="19"/>
                </a:lnTo>
                <a:lnTo>
                  <a:pt x="841" y="97"/>
                </a:lnTo>
                <a:lnTo>
                  <a:pt x="900" y="195"/>
                </a:lnTo>
                <a:lnTo>
                  <a:pt x="900" y="254"/>
                </a:lnTo>
                <a:lnTo>
                  <a:pt x="900" y="332"/>
                </a:lnTo>
                <a:lnTo>
                  <a:pt x="822" y="547"/>
                </a:lnTo>
                <a:lnTo>
                  <a:pt x="841" y="743"/>
                </a:lnTo>
                <a:lnTo>
                  <a:pt x="900" y="821"/>
                </a:lnTo>
                <a:lnTo>
                  <a:pt x="959" y="860"/>
                </a:lnTo>
                <a:lnTo>
                  <a:pt x="1174" y="841"/>
                </a:lnTo>
                <a:lnTo>
                  <a:pt x="1272" y="821"/>
                </a:lnTo>
                <a:lnTo>
                  <a:pt x="1311" y="860"/>
                </a:lnTo>
                <a:lnTo>
                  <a:pt x="1213" y="1056"/>
                </a:lnTo>
                <a:lnTo>
                  <a:pt x="1135" y="1154"/>
                </a:lnTo>
                <a:lnTo>
                  <a:pt x="1135" y="1193"/>
                </a:lnTo>
                <a:lnTo>
                  <a:pt x="1174" y="1252"/>
                </a:lnTo>
                <a:lnTo>
                  <a:pt x="1213" y="1330"/>
                </a:lnTo>
                <a:lnTo>
                  <a:pt x="1311" y="1428"/>
                </a:lnTo>
                <a:lnTo>
                  <a:pt x="1409" y="1525"/>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H="1">
            <a:off x="3522600" y="5083200"/>
            <a:ext cx="30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689120" y="2971800"/>
            <a:ext cx="1739880" cy="2111400"/>
          </a:xfrm>
          <a:custGeom>
            <a:avLst/>
            <a:gdLst/>
            <a:ahLst/>
            <a:rect l="l" t="t" r="r" b="b"/>
            <a:pathLst>
              <a:path w="1096" h="1330">
                <a:moveTo>
                  <a:pt x="1037" y="1330"/>
                </a:moveTo>
                <a:lnTo>
                  <a:pt x="978" y="1272"/>
                </a:lnTo>
                <a:lnTo>
                  <a:pt x="881" y="1174"/>
                </a:lnTo>
                <a:lnTo>
                  <a:pt x="763" y="1057"/>
                </a:lnTo>
                <a:lnTo>
                  <a:pt x="665" y="959"/>
                </a:lnTo>
                <a:lnTo>
                  <a:pt x="431" y="724"/>
                </a:lnTo>
                <a:lnTo>
                  <a:pt x="254" y="470"/>
                </a:lnTo>
                <a:lnTo>
                  <a:pt x="176" y="352"/>
                </a:lnTo>
                <a:lnTo>
                  <a:pt x="78" y="274"/>
                </a:lnTo>
                <a:lnTo>
                  <a:pt x="0" y="196"/>
                </a:lnTo>
                <a:lnTo>
                  <a:pt x="0" y="98"/>
                </a:lnTo>
                <a:lnTo>
                  <a:pt x="20" y="39"/>
                </a:lnTo>
                <a:lnTo>
                  <a:pt x="78" y="20"/>
                </a:lnTo>
                <a:lnTo>
                  <a:pt x="254" y="0"/>
                </a:lnTo>
                <a:lnTo>
                  <a:pt x="352" y="0"/>
                </a:lnTo>
                <a:lnTo>
                  <a:pt x="411" y="39"/>
                </a:lnTo>
                <a:lnTo>
                  <a:pt x="431" y="157"/>
                </a:lnTo>
                <a:lnTo>
                  <a:pt x="391" y="274"/>
                </a:lnTo>
                <a:lnTo>
                  <a:pt x="391" y="352"/>
                </a:lnTo>
                <a:lnTo>
                  <a:pt x="431" y="431"/>
                </a:lnTo>
                <a:lnTo>
                  <a:pt x="489" y="568"/>
                </a:lnTo>
                <a:lnTo>
                  <a:pt x="587" y="665"/>
                </a:lnTo>
                <a:lnTo>
                  <a:pt x="783" y="724"/>
                </a:lnTo>
                <a:lnTo>
                  <a:pt x="841" y="724"/>
                </a:lnTo>
                <a:lnTo>
                  <a:pt x="841" y="783"/>
                </a:lnTo>
                <a:lnTo>
                  <a:pt x="802" y="920"/>
                </a:lnTo>
                <a:lnTo>
                  <a:pt x="939" y="1135"/>
                </a:lnTo>
                <a:lnTo>
                  <a:pt x="1037" y="1272"/>
                </a:lnTo>
                <a:lnTo>
                  <a:pt x="1096" y="1330"/>
                </a:lnTo>
                <a:lnTo>
                  <a:pt x="1037" y="133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689120" y="2971800"/>
            <a:ext cx="1739880" cy="2111400"/>
          </a:xfrm>
          <a:custGeom>
            <a:avLst/>
            <a:gdLst/>
            <a:ahLst/>
            <a:rect l="l" t="t" r="r" b="b"/>
            <a:pathLst>
              <a:path w="1096" h="1330">
                <a:moveTo>
                  <a:pt x="1037" y="1330"/>
                </a:moveTo>
                <a:lnTo>
                  <a:pt x="978" y="1272"/>
                </a:lnTo>
                <a:lnTo>
                  <a:pt x="881" y="1174"/>
                </a:lnTo>
                <a:lnTo>
                  <a:pt x="763" y="1057"/>
                </a:lnTo>
                <a:lnTo>
                  <a:pt x="665" y="959"/>
                </a:lnTo>
                <a:lnTo>
                  <a:pt x="431" y="724"/>
                </a:lnTo>
                <a:lnTo>
                  <a:pt x="254" y="470"/>
                </a:lnTo>
                <a:lnTo>
                  <a:pt x="176" y="352"/>
                </a:lnTo>
                <a:lnTo>
                  <a:pt x="78" y="274"/>
                </a:lnTo>
                <a:lnTo>
                  <a:pt x="0" y="196"/>
                </a:lnTo>
                <a:lnTo>
                  <a:pt x="0" y="98"/>
                </a:lnTo>
                <a:lnTo>
                  <a:pt x="20" y="39"/>
                </a:lnTo>
                <a:lnTo>
                  <a:pt x="78" y="20"/>
                </a:lnTo>
                <a:lnTo>
                  <a:pt x="254" y="0"/>
                </a:lnTo>
                <a:lnTo>
                  <a:pt x="352" y="0"/>
                </a:lnTo>
                <a:lnTo>
                  <a:pt x="411" y="39"/>
                </a:lnTo>
                <a:lnTo>
                  <a:pt x="431" y="157"/>
                </a:lnTo>
                <a:lnTo>
                  <a:pt x="391" y="274"/>
                </a:lnTo>
                <a:lnTo>
                  <a:pt x="391" y="352"/>
                </a:lnTo>
                <a:lnTo>
                  <a:pt x="431" y="431"/>
                </a:lnTo>
                <a:lnTo>
                  <a:pt x="489" y="568"/>
                </a:lnTo>
                <a:lnTo>
                  <a:pt x="587" y="665"/>
                </a:lnTo>
                <a:lnTo>
                  <a:pt x="783" y="724"/>
                </a:lnTo>
                <a:lnTo>
                  <a:pt x="841" y="724"/>
                </a:lnTo>
                <a:lnTo>
                  <a:pt x="841" y="783"/>
                </a:lnTo>
                <a:lnTo>
                  <a:pt x="802" y="920"/>
                </a:lnTo>
                <a:lnTo>
                  <a:pt x="939" y="1135"/>
                </a:lnTo>
                <a:lnTo>
                  <a:pt x="1037" y="1272"/>
                </a:lnTo>
                <a:lnTo>
                  <a:pt x="1096" y="133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2247840" y="2847960"/>
            <a:ext cx="1677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2247840" y="3344760"/>
            <a:ext cx="1833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247840" y="2195640"/>
            <a:ext cx="1677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014360" y="1978200"/>
            <a:ext cx="1409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eneva"/>
              </a:rPr>
              <a:t>neocortex</a:t>
            </a:r>
            <a:endParaRPr b="0" lang="en-US" sz="2200" spc="-1" strike="noStrike">
              <a:solidFill>
                <a:srgbClr val="ffffff"/>
              </a:solidFill>
              <a:latin typeface="Times New Roman"/>
            </a:endParaRPr>
          </a:p>
        </p:txBody>
      </p:sp>
      <p:sp>
        <p:nvSpPr>
          <p:cNvPr id="209" name=""/>
          <p:cNvSpPr/>
          <p:nvPr/>
        </p:nvSpPr>
        <p:spPr>
          <a:xfrm>
            <a:off x="4046400" y="2692440"/>
            <a:ext cx="191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eneva"/>
              </a:rPr>
              <a:t>limbic system</a:t>
            </a:r>
            <a:endParaRPr b="0" lang="en-US" sz="2200" spc="-1" strike="noStrike">
              <a:solidFill>
                <a:srgbClr val="ffffff"/>
              </a:solidFill>
              <a:latin typeface="Times New Roman"/>
            </a:endParaRPr>
          </a:p>
        </p:txBody>
      </p:sp>
      <p:sp>
        <p:nvSpPr>
          <p:cNvPr id="210" name=""/>
          <p:cNvSpPr/>
          <p:nvPr/>
        </p:nvSpPr>
        <p:spPr>
          <a:xfrm>
            <a:off x="4151160" y="3251160"/>
            <a:ext cx="1197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eneva"/>
              </a:rPr>
              <a:t>reptilian</a:t>
            </a:r>
            <a:endParaRPr b="0" lang="en-US" sz="2200" spc="-1" strike="noStrike">
              <a:solidFill>
                <a:srgbClr val="ffffff"/>
              </a:solidFill>
              <a:latin typeface="Times New Roman"/>
            </a:endParaRPr>
          </a:p>
        </p:txBody>
      </p:sp>
    </p:spTree>
  </p:cSld>
  <p:transition spd="slow" advTm="6000">
    <p:pull dir="l"/>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96"/>
                                        </p:tgtEl>
                                        <p:attrNameLst>
                                          <p:attrName>style.visibility</p:attrName>
                                        </p:attrNameLst>
                                      </p:cBhvr>
                                      <p:to>
                                        <p:strVal val="visible"/>
                                      </p:to>
                                    </p:set>
                                    <p:animEffect filter="wipe(down)" transition="in">
                                      <p:cBhvr additive="repl">
                                        <p:cTn id="28" dur="500"/>
                                        <p:tgtEl>
                                          <p:spTgt spid="19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95"/>
                                        </p:tgtEl>
                                        <p:attrNameLst>
                                          <p:attrName>style.visibility</p:attrName>
                                        </p:attrNameLst>
                                      </p:cBhvr>
                                      <p:to>
                                        <p:strVal val="visible"/>
                                      </p:to>
                                    </p:set>
                                    <p:animEffect filter="wipe(down)" transition="in">
                                      <p:cBhvr additive="repl">
                                        <p:cTn id="33" dur="500"/>
                                        <p:tgtEl>
                                          <p:spTgt spid="1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94"/>
                                        </p:tgtEl>
                                        <p:attrNameLst>
                                          <p:attrName>style.visibility</p:attrName>
                                        </p:attrNameLst>
                                      </p:cBhvr>
                                      <p:to>
                                        <p:strVal val="visible"/>
                                      </p:to>
                                    </p:set>
                                    <p:animEffect filter="wipe(down)" transition="in">
                                      <p:cBhvr additive="repl">
                                        <p:cTn id="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115560"/>
            <a:ext cx="7993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Herrmann’s Creative Brain model</a:t>
            </a:r>
            <a:endParaRPr b="1" lang="en-US" sz="3200" spc="-1" strike="noStrike">
              <a:solidFill>
                <a:srgbClr val="003366"/>
              </a:solidFill>
              <a:latin typeface="Verdana"/>
            </a:endParaRPr>
          </a:p>
        </p:txBody>
      </p:sp>
      <p:sp>
        <p:nvSpPr>
          <p:cNvPr id="212" name="PlaceHolder 2"/>
          <p:cNvSpPr>
            <a:spLocks noGrp="1"/>
          </p:cNvSpPr>
          <p:nvPr>
            <p:ph/>
          </p:nvPr>
        </p:nvSpPr>
        <p:spPr>
          <a:xfrm>
            <a:off x="755640" y="1341000"/>
            <a:ext cx="7848720" cy="4032360"/>
          </a:xfrm>
          <a:prstGeom prst="rect">
            <a:avLst/>
          </a:prstGeom>
          <a:noFill/>
          <a:ln w="0">
            <a:noFill/>
          </a:ln>
        </p:spPr>
        <p:txBody>
          <a:bodyPr lIns="90000" rIns="90000" tIns="46800" bIns="46800" anchor="t">
            <a:normAutofit fontScale="94000"/>
          </a:bodyPr>
          <a:p>
            <a:pPr marL="322200" indent="-322200">
              <a:lnSpc>
                <a:spcPct val="80000"/>
              </a:lnSpc>
              <a:spcBef>
                <a:spcPts val="2174"/>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Some rules …</a:t>
            </a:r>
            <a:endParaRPr b="0" lang="en-US" sz="2900" spc="-1" strike="noStrike">
              <a:solidFill>
                <a:srgbClr val="003366"/>
              </a:solidFill>
              <a:latin typeface="Verdana"/>
            </a:endParaRPr>
          </a:p>
          <a:p>
            <a:pPr lvl="1" marL="698400" indent="-268560">
              <a:lnSpc>
                <a:spcPct val="80000"/>
              </a:lnSpc>
              <a:spcBef>
                <a:spcPts val="12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003366"/>
                </a:solidFill>
                <a:uFillTx/>
                <a:latin typeface="Verdana"/>
              </a:rPr>
              <a:t>No cognitive preference is better than another</a:t>
            </a:r>
            <a:endParaRPr b="0" lang="en-US" sz="2500" spc="-1" strike="noStrike">
              <a:solidFill>
                <a:srgbClr val="003366"/>
              </a:solidFill>
              <a:latin typeface="Verdana"/>
            </a:endParaRPr>
          </a:p>
          <a:p>
            <a:pPr lvl="2" marL="1074240" indent="-214560">
              <a:lnSpc>
                <a:spcPct val="75000"/>
              </a:lnSpc>
              <a:spcBef>
                <a:spcPts val="10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Verdana"/>
              </a:rPr>
              <a:t>“</a:t>
            </a:r>
            <a:r>
              <a:rPr b="0" i="1" lang="en-GB" sz="2400" spc="-1" strike="noStrike">
                <a:solidFill>
                  <a:srgbClr val="003366"/>
                </a:solidFill>
                <a:latin typeface="Verdana"/>
              </a:rPr>
              <a:t>Every [one] brings critically important contributions to living and working”</a:t>
            </a:r>
            <a:endParaRPr b="0" lang="en-US" sz="2400" spc="-1" strike="noStrike">
              <a:solidFill>
                <a:srgbClr val="003366"/>
              </a:solidFill>
              <a:latin typeface="Verdana"/>
            </a:endParaRPr>
          </a:p>
          <a:p>
            <a:pPr lvl="1" marL="698400" indent="-268560">
              <a:lnSpc>
                <a:spcPct val="80000"/>
              </a:lnSpc>
              <a:spcBef>
                <a:spcPts val="12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u="sng">
                <a:solidFill>
                  <a:srgbClr val="003366"/>
                </a:solidFill>
                <a:uFillTx/>
                <a:latin typeface="Verdana"/>
              </a:rPr>
              <a:t>Not a measure of intelligence</a:t>
            </a:r>
            <a:endParaRPr b="0" lang="en-US" sz="2500" spc="-1" strike="noStrike">
              <a:solidFill>
                <a:srgbClr val="003366"/>
              </a:solidFill>
              <a:latin typeface="Verdana"/>
            </a:endParaRPr>
          </a:p>
          <a:p>
            <a:pPr lvl="2" marL="1074240" indent="-214560">
              <a:lnSpc>
                <a:spcPct val="75000"/>
              </a:lnSpc>
              <a:spcBef>
                <a:spcPts val="10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Verdana"/>
              </a:rPr>
              <a:t>“</a:t>
            </a:r>
            <a:r>
              <a:rPr b="0" i="1" lang="en-GB" sz="2400" spc="-1" strike="noStrike">
                <a:solidFill>
                  <a:srgbClr val="003366"/>
                </a:solidFill>
                <a:latin typeface="Verdana"/>
              </a:rPr>
              <a:t>The [model] is a metaphor describing how a person prefers to acquire and process information, not how fast or accurately they do it.”</a:t>
            </a:r>
            <a:endParaRPr b="0" lang="en-US" sz="2400" spc="-1" strike="noStrike">
              <a:solidFill>
                <a:srgbClr val="003366"/>
              </a:solidFill>
              <a:latin typeface="Verdana"/>
            </a:endParaRPr>
          </a:p>
          <a:p>
            <a:pPr lvl="1" marL="698400" indent="-268560">
              <a:lnSpc>
                <a:spcPct val="80000"/>
              </a:lnSpc>
              <a:spcBef>
                <a:spcPts val="12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66"/>
                </a:solidFill>
                <a:latin typeface="Verdana"/>
              </a:rPr>
              <a:t>Over 90% of people have &gt;1 preference</a:t>
            </a:r>
            <a:endParaRPr b="0" lang="en-US" sz="2500" spc="-1" strike="noStrike">
              <a:solidFill>
                <a:srgbClr val="003366"/>
              </a:solidFill>
              <a:latin typeface="Verdana"/>
            </a:endParaRPr>
          </a:p>
          <a:p>
            <a:pPr lvl="1" marL="698400" indent="-268560">
              <a:lnSpc>
                <a:spcPct val="80000"/>
              </a:lnSpc>
              <a:spcBef>
                <a:spcPts val="12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3366"/>
                </a:solidFill>
                <a:latin typeface="Verdana"/>
              </a:rPr>
              <a:t>“</a:t>
            </a:r>
            <a:r>
              <a:rPr b="0" i="1" lang="en-GB" sz="2500" spc="-1" strike="noStrike">
                <a:solidFill>
                  <a:srgbClr val="003366"/>
                </a:solidFill>
                <a:latin typeface="Verdana"/>
              </a:rPr>
              <a:t>Profiles tend to remain constant, but they can and do change.”</a:t>
            </a:r>
            <a:endParaRPr b="0" lang="en-US" sz="2500" spc="-1" strike="noStrike">
              <a:solidFill>
                <a:srgbClr val="003366"/>
              </a:solidFill>
              <a:latin typeface="Verdana"/>
            </a:endParaRPr>
          </a:p>
          <a:p>
            <a:pPr marL="322200" indent="0">
              <a:lnSpc>
                <a:spcPct val="8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Verdana"/>
            </a:endParaRPr>
          </a:p>
        </p:txBody>
      </p:sp>
    </p:spTree>
  </p:cSld>
  <p:transition spd="slow" advTm="6000">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The Diversity Game</a:t>
            </a:r>
            <a:endParaRPr b="1" lang="en-US" sz="3200" spc="-1" strike="noStrike">
              <a:solidFill>
                <a:srgbClr val="003366"/>
              </a:solidFill>
              <a:latin typeface="Verdana"/>
            </a:endParaRPr>
          </a:p>
        </p:txBody>
      </p:sp>
      <p:sp>
        <p:nvSpPr>
          <p:cNvPr id="214"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marL="343080" indent="-343080">
              <a:lnSpc>
                <a:spcPct val="90000"/>
              </a:lnSpc>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Verdana"/>
              </a:rPr>
              <a:t>Arrange your five cards in order, starting with the card that best describes yourself, and ending with the one that is least like you …</a:t>
            </a:r>
            <a:endParaRPr b="0" lang="en-US" sz="3000" spc="-1" strike="noStrike">
              <a:solidFill>
                <a:srgbClr val="003366"/>
              </a:solidFill>
              <a:latin typeface="Verdana"/>
            </a:endParaRPr>
          </a:p>
          <a:p>
            <a:pPr marL="343080" indent="-343080">
              <a:lnSpc>
                <a:spcPct val="90000"/>
              </a:lnSpc>
              <a:spcBef>
                <a:spcPts val="2251"/>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669900"/>
                </a:solidFill>
                <a:latin typeface="Verdana"/>
              </a:rPr>
              <a:t>What was your immediate response to the cards that were dealt?</a:t>
            </a:r>
            <a:endParaRPr b="0" lang="en-US" sz="3000" spc="-1" strike="noStrike">
              <a:solidFill>
                <a:srgbClr val="003366"/>
              </a:solidFill>
              <a:latin typeface="Verdana"/>
            </a:endParaRPr>
          </a:p>
          <a:p>
            <a:pPr marL="343080" indent="-343080">
              <a:lnSpc>
                <a:spcPct val="90000"/>
              </a:lnSpc>
              <a:spcBef>
                <a:spcPts val="2251"/>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669900"/>
                </a:solidFill>
                <a:latin typeface="Verdana"/>
              </a:rPr>
              <a:t>Would you be comfortable finishing the game with these cards?</a:t>
            </a:r>
            <a:endParaRPr b="0" lang="en-US" sz="3000" spc="-1" strike="noStrike">
              <a:solidFill>
                <a:srgbClr val="003366"/>
              </a:solidFill>
              <a:latin typeface="Verdana"/>
            </a:endParaRPr>
          </a:p>
        </p:txBody>
      </p:sp>
    </p:spTree>
  </p:cSld>
  <p:transition spd="slow" advTm="6000">
    <p:pull dir="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The Diversity Game</a:t>
            </a:r>
            <a:endParaRPr b="1" lang="en-US" sz="3200" spc="-1" strike="noStrike">
              <a:solidFill>
                <a:srgbClr val="003366"/>
              </a:solidFill>
              <a:latin typeface="Verdana"/>
            </a:endParaRPr>
          </a:p>
        </p:txBody>
      </p:sp>
      <p:sp>
        <p:nvSpPr>
          <p:cNvPr id="216"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marL="343080" indent="-343080">
              <a:spcBef>
                <a:spcPts val="21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Verdana"/>
              </a:rPr>
              <a:t>Move around the other players and trade cards to “improve” your hand ...</a:t>
            </a:r>
            <a:endParaRPr b="0" lang="en-US" sz="2800" spc="-1" strike="noStrike">
              <a:solidFill>
                <a:srgbClr val="003366"/>
              </a:solidFill>
              <a:latin typeface="Verdana"/>
            </a:endParaRPr>
          </a:p>
          <a:p>
            <a:pPr marL="343080" indent="-343080">
              <a:spcBef>
                <a:spcPts val="2100"/>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69900"/>
                </a:solidFill>
                <a:latin typeface="Verdana"/>
              </a:rPr>
              <a:t>Were there any noticeable patterns in the kinds of cards other players wanted to keep and those they were willing to trade?</a:t>
            </a:r>
            <a:endParaRPr b="0" lang="en-US" sz="2800" spc="-1" strike="noStrike">
              <a:solidFill>
                <a:srgbClr val="003366"/>
              </a:solidFill>
              <a:latin typeface="Verdana"/>
            </a:endParaRPr>
          </a:p>
          <a:p>
            <a:pPr marL="343080" indent="-343080">
              <a:spcBef>
                <a:spcPts val="2100"/>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69900"/>
                </a:solidFill>
                <a:latin typeface="Verdana"/>
              </a:rPr>
              <a:t>What might patterns suggest about the preferences of the group?</a:t>
            </a:r>
            <a:endParaRPr b="0" lang="en-US" sz="2800" spc="-1" strike="noStrike">
              <a:solidFill>
                <a:srgbClr val="003366"/>
              </a:solidFill>
              <a:latin typeface="Verdana"/>
            </a:endParaRPr>
          </a:p>
        </p:txBody>
      </p:sp>
    </p:spTree>
  </p:cSld>
  <p:transition spd="slow" advTm="6000">
    <p:pull dir="l"/>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The Diversity Game</a:t>
            </a:r>
            <a:endParaRPr b="1" lang="en-US" sz="3200" spc="-1" strike="noStrike">
              <a:solidFill>
                <a:srgbClr val="003366"/>
              </a:solidFill>
              <a:latin typeface="Verdana"/>
            </a:endParaRPr>
          </a:p>
        </p:txBody>
      </p:sp>
      <p:sp>
        <p:nvSpPr>
          <p:cNvPr id="218"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marL="343080" indent="-3430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Verdana"/>
              </a:rPr>
              <a:t>Discard your two least preferred cards …</a:t>
            </a:r>
            <a:endParaRPr b="0" lang="en-US" sz="3000" spc="-1" strike="noStrike">
              <a:solidFill>
                <a:srgbClr val="003366"/>
              </a:solidFill>
              <a:latin typeface="Verdana"/>
            </a:endParaRPr>
          </a:p>
          <a:p>
            <a:pPr marL="343080" indent="-343080">
              <a:spcBef>
                <a:spcPts val="2251"/>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669900"/>
                </a:solidFill>
                <a:latin typeface="Verdana"/>
              </a:rPr>
              <a:t>What reaction did you have when you had to give up two cards?</a:t>
            </a:r>
            <a:endParaRPr b="0" lang="en-US" sz="3000" spc="-1" strike="noStrike">
              <a:solidFill>
                <a:srgbClr val="003366"/>
              </a:solidFill>
              <a:latin typeface="Verdana"/>
            </a:endParaRPr>
          </a:p>
        </p:txBody>
      </p:sp>
    </p:spTree>
  </p:cSld>
  <p:transition spd="slow" advTm="6000">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3:21:51Z</dcterms:created>
  <dc:creator>Vicki Dale</dc:creator>
  <dc:description/>
  <dc:language>en-US</dc:language>
  <cp:lastModifiedBy>Vicki HM Dale</cp:lastModifiedBy>
  <cp:lastPrinted>2005-02-25T21:39:30Z</cp:lastPrinted>
  <dcterms:modified xsi:type="dcterms:W3CDTF">2007-07-31T07:56:58Z</dcterms:modified>
  <cp:revision>172</cp:revision>
  <dc:subject/>
  <dc:title>The First Veterinary Clinical Skills Centre in the UK</dc:title>
</cp:coreProperties>
</file>